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000" y="1197000"/>
            <a:ext cx="8663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43000" y="4017960"/>
            <a:ext cx="8663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43000" y="1197000"/>
            <a:ext cx="4227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2160" y="1197000"/>
            <a:ext cx="4227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43000" y="4017960"/>
            <a:ext cx="4227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2160" y="4017960"/>
            <a:ext cx="4227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43000" y="1197000"/>
            <a:ext cx="2789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1960" y="1197000"/>
            <a:ext cx="2789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1280" y="1197000"/>
            <a:ext cx="2789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43000" y="4017960"/>
            <a:ext cx="2789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1960" y="4017960"/>
            <a:ext cx="2789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1280" y="4017960"/>
            <a:ext cx="2789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43000" y="1197000"/>
            <a:ext cx="86630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3000" y="1197000"/>
            <a:ext cx="86630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3000" y="1197000"/>
            <a:ext cx="4227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2160" y="1197000"/>
            <a:ext cx="4227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94920" y="235080"/>
            <a:ext cx="43210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000" y="1197000"/>
            <a:ext cx="4227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2160" y="1197000"/>
            <a:ext cx="4227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43000" y="4017960"/>
            <a:ext cx="4227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43000" y="1197000"/>
            <a:ext cx="86630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" y="1197000"/>
            <a:ext cx="4227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2160" y="1197000"/>
            <a:ext cx="4227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2160" y="4017960"/>
            <a:ext cx="4227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" y="1197000"/>
            <a:ext cx="4227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2160" y="1197000"/>
            <a:ext cx="4227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43000" y="4017960"/>
            <a:ext cx="8663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" y="1197000"/>
            <a:ext cx="8663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43000" y="4017960"/>
            <a:ext cx="8663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000" y="1197000"/>
            <a:ext cx="4227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2160" y="1197000"/>
            <a:ext cx="4227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000" y="4017960"/>
            <a:ext cx="4227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2160" y="4017960"/>
            <a:ext cx="4227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3000" y="1197000"/>
            <a:ext cx="2789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1960" y="1197000"/>
            <a:ext cx="2789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1280" y="1197000"/>
            <a:ext cx="2789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43000" y="4017960"/>
            <a:ext cx="2789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1960" y="4017960"/>
            <a:ext cx="2789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1280" y="4017960"/>
            <a:ext cx="2789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43000" y="1197000"/>
            <a:ext cx="86630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3000" y="1197000"/>
            <a:ext cx="4227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2160" y="1197000"/>
            <a:ext cx="4227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4920" y="235080"/>
            <a:ext cx="432108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43000" y="1197000"/>
            <a:ext cx="4227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2160" y="1197000"/>
            <a:ext cx="4227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43000" y="4017960"/>
            <a:ext cx="4227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000" y="1197000"/>
            <a:ext cx="4227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160" y="1197000"/>
            <a:ext cx="4227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2160" y="4017960"/>
            <a:ext cx="4227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000" y="1197000"/>
            <a:ext cx="4227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160" y="1197000"/>
            <a:ext cx="42274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43000" y="4017960"/>
            <a:ext cx="8663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189000"/>
            <a:ext cx="820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43000" y="1197000"/>
            <a:ext cx="86630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0" t="0" r="0" b="23846"/>
          <a:stretch/>
        </p:blipFill>
        <p:spPr>
          <a:xfrm>
            <a:off x="7308720" y="284040"/>
            <a:ext cx="18352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572000" y="836640"/>
            <a:ext cx="4572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4572000" cy="12682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80360" y="44280"/>
            <a:ext cx="1439640" cy="6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23846"/>
          <a:stretch/>
        </p:blipFill>
        <p:spPr>
          <a:xfrm>
            <a:off x="6948360" y="5950080"/>
            <a:ext cx="1979640" cy="720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03280" y="2565360"/>
            <a:ext cx="6553440" cy="2376360"/>
          </a:xfrm>
          <a:prstGeom prst="roundRect">
            <a:avLst>
              <a:gd name="adj" fmla="val 5079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d0fd"/>
                </a:solidFill>
                <a:latin typeface="Times New Roman"/>
              </a:rPr>
              <a:t>PM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057"/>
          <p:cNvSpPr/>
          <p:nvPr/>
        </p:nvSpPr>
        <p:spPr>
          <a:xfrm>
            <a:off x="1258920" y="692280"/>
            <a:ext cx="691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66"/>
                </a:solidFill>
                <a:latin typeface="Times New Roman"/>
              </a:rPr>
              <a:t>Planejamento e Orç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66"/>
                </a:solidFill>
                <a:latin typeface="Times New Roman"/>
              </a:rPr>
              <a:t>no Governo de Minas Ger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4920" y="2997360"/>
            <a:ext cx="6402240" cy="1873080"/>
          </a:xfrm>
          <a:prstGeom prst="roundRect">
            <a:avLst>
              <a:gd name="adj" fmla="val 4907"/>
            </a:avLst>
          </a:prstGeom>
          <a:solidFill>
            <a:srgbClr val="8fa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b36"/>
                </a:solidFill>
                <a:latin typeface="Times New Roman"/>
              </a:rPr>
              <a:t>Planejamento Plurianual do Orç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84360" y="3645000"/>
            <a:ext cx="4391280" cy="45864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bd0fd"/>
                </a:solidFill>
                <a:latin typeface="Times New Roman"/>
              </a:rPr>
              <a:t>PPAG 2008-201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4246560"/>
            <a:ext cx="3311640" cy="43164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bd0fd"/>
                </a:solidFill>
                <a:latin typeface="Times New Roman"/>
              </a:rPr>
              <a:t>LOA 200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57"/>
          <p:cNvSpPr/>
          <p:nvPr/>
        </p:nvSpPr>
        <p:spPr>
          <a:xfrm>
            <a:off x="1619280" y="5743440"/>
            <a:ext cx="611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imes New Roman"/>
              </a:rPr>
              <a:t>SIS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imes New Roman"/>
              </a:rPr>
              <a:t>Fevereiro de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rogramas Associado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630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Requisito: alinhamento à estratégia definida no PMD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Representam os programas dotados de colaboração sinérgica com os Programas Estruturadores para o alcance da visão de futuro e dos objetivos estratégicos do PMDI. Estes programas devem perseguir os objetivos estratégicos da Área de Resultados à qual foi associado, bem como contribuir para o alcance dos resultados definidos para a área em questã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Sua codificação está entre 100 e 699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rogramas Especia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3000" y="1197000"/>
            <a:ext cx="86630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Não se identificam diretamente a nenhuma área de resultado ou Projeto Estruturad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Possuem grande importância para a administração estadual por contemplar as prioridades setoriais, embora não atendidas nos programas estruturadores e associad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Incluem-se neste escopo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os programas padronizados de apoio à administração pública e de obrigações especia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os programas de serviços ao estado  não associados a nenhuma área de resultado específic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rogramas que, apesar de finalísticos do ponto de vista do órgão, são tipicamente “meio” do ponto de vista da sociedad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Sua codificação está entre 700 e 999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xemplo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43000" y="1197000"/>
            <a:ext cx="86630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Não se identificam diretamente a nenhuma área de resultado ou Projeto Estruturado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Possuem grande importância para a administração estadual por contemplar as prioridades setoriais, embora não atendidas nos programas estruturadores e associad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Incluem-se neste escopo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os programas padronizados de apoio à administração pública e de obrigações especia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os programas de serviços ao estado  não associados a nenhuma área de resultado específic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Times New Roman"/>
              <a:buChar char="–"/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programas que, apesar de finalísticos do ponto de vista do órgão, são tipicamente “meio” do ponto de vista da sociedad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50920" y="1052640"/>
            <a:ext cx="8569080" cy="5545080"/>
          </a:xfrm>
          <a:prstGeom prst="roundRect">
            <a:avLst>
              <a:gd name="adj" fmla="val 9593"/>
            </a:avLst>
          </a:prstGeom>
          <a:solidFill>
            <a:srgbClr val="8fa4c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5280" y="2205000"/>
            <a:ext cx="5113440" cy="4176720"/>
          </a:xfrm>
          <a:prstGeom prst="roundRect">
            <a:avLst>
              <a:gd name="adj" fmla="val 3588"/>
            </a:avLst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b36"/>
                </a:solidFill>
                <a:latin typeface="Segoe Semibold"/>
              </a:rPr>
              <a:t>Órgão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strutura básica do PPA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4000" y="1125360"/>
            <a:ext cx="2233440" cy="790920"/>
          </a:xfrm>
          <a:prstGeom prst="roundRect">
            <a:avLst>
              <a:gd name="adj" fmla="val 50000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d0fd"/>
                </a:solidFill>
                <a:latin typeface="Segoe Semibold"/>
              </a:rPr>
              <a:t>PP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8360" y="2708280"/>
            <a:ext cx="4967280" cy="431640"/>
          </a:xfrm>
          <a:prstGeom prst="roundRect">
            <a:avLst>
              <a:gd name="adj" fmla="val 16667"/>
            </a:avLst>
          </a:prstGeom>
          <a:solidFill>
            <a:srgbClr val="0a1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d0fd"/>
                </a:solidFill>
                <a:latin typeface="Segoe Semibold"/>
              </a:rPr>
              <a:t>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284640"/>
            <a:ext cx="1008000" cy="93636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d0fd"/>
                </a:solidFill>
                <a:latin typeface="Segoe Semibold"/>
              </a:rPr>
              <a:t>Pro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76720" y="3284640"/>
            <a:ext cx="1008000" cy="93636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d0fd"/>
                </a:solidFill>
                <a:latin typeface="Segoe Semibold"/>
              </a:rPr>
              <a:t>Pro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356000" y="3284640"/>
            <a:ext cx="1086120" cy="93636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d0fd"/>
                </a:solidFill>
                <a:latin typeface="Segoe Semibold"/>
              </a:rPr>
              <a:t> </a:t>
            </a:r>
            <a:r>
              <a:rPr b="1" lang="en-US" sz="1800" spc="-1" strike="noStrike">
                <a:solidFill>
                  <a:srgbClr val="cbd0fd"/>
                </a:solidFill>
                <a:latin typeface="Segoe Semibold"/>
              </a:rPr>
              <a:t>Prog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8360" y="4724280"/>
            <a:ext cx="1150920" cy="720720"/>
          </a:xfrm>
          <a:prstGeom prst="roundRect">
            <a:avLst>
              <a:gd name="adj" fmla="val 16667"/>
            </a:avLst>
          </a:prstGeom>
          <a:solidFill>
            <a:srgbClr val="18438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d0fd"/>
                </a:solidFill>
                <a:latin typeface="Segoe Semibold"/>
              </a:rPr>
              <a:t>Açã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70120" y="4724280"/>
            <a:ext cx="1289160" cy="720720"/>
          </a:xfrm>
          <a:prstGeom prst="roundRect">
            <a:avLst>
              <a:gd name="adj" fmla="val 16667"/>
            </a:avLst>
          </a:prstGeom>
          <a:solidFill>
            <a:srgbClr val="18438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d0fd"/>
                </a:solidFill>
                <a:latin typeface="Segoe Semibold"/>
              </a:rPr>
              <a:t>Açã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140360" y="4724280"/>
            <a:ext cx="1223640" cy="720720"/>
          </a:xfrm>
          <a:prstGeom prst="roundRect">
            <a:avLst>
              <a:gd name="adj" fmla="val 16667"/>
            </a:avLst>
          </a:prstGeom>
          <a:solidFill>
            <a:srgbClr val="18438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d0fd"/>
                </a:solidFill>
                <a:latin typeface="Segoe Semibold"/>
              </a:rPr>
              <a:t>Ação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"/>
          <p:cNvCxnSpPr>
            <a:stCxn id="361" idx="2"/>
            <a:endCxn id="364" idx="0"/>
          </p:cNvCxnSpPr>
          <p:nvPr/>
        </p:nvCxnSpPr>
        <p:spPr>
          <a:xfrm>
            <a:off x="972720" y="4221000"/>
            <a:ext cx="72360" cy="5040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368" name=""/>
          <p:cNvCxnSpPr>
            <a:stCxn id="361" idx="2"/>
            <a:endCxn id="365" idx="0"/>
          </p:cNvCxnSpPr>
          <p:nvPr/>
        </p:nvCxnSpPr>
        <p:spPr>
          <a:xfrm>
            <a:off x="973080" y="4221000"/>
            <a:ext cx="1442160" cy="5040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369" name=""/>
          <p:cNvSpPr/>
          <p:nvPr/>
        </p:nvSpPr>
        <p:spPr>
          <a:xfrm>
            <a:off x="1690560" y="328464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d0fd"/>
                </a:solidFill>
                <a:latin typeface="Segoe Semibold"/>
              </a:rPr>
              <a:t>Indicado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90560" y="378936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d0fd"/>
                </a:solidFill>
                <a:latin typeface="Segoe Semibold"/>
              </a:rPr>
              <a:t>Indicado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"/>
          <p:cNvCxnSpPr>
            <a:stCxn id="361" idx="3"/>
            <a:endCxn id="369" idx="1"/>
          </p:cNvCxnSpPr>
          <p:nvPr/>
        </p:nvCxnSpPr>
        <p:spPr>
          <a:xfrm flipV="1">
            <a:off x="1476000" y="3499920"/>
            <a:ext cx="214920" cy="2534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372" name=""/>
          <p:cNvCxnSpPr>
            <a:stCxn id="361" idx="3"/>
            <a:endCxn id="370" idx="1"/>
          </p:cNvCxnSpPr>
          <p:nvPr/>
        </p:nvCxnSpPr>
        <p:spPr>
          <a:xfrm>
            <a:off x="1476000" y="3752640"/>
            <a:ext cx="214920" cy="253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373" name=""/>
          <p:cNvSpPr/>
          <p:nvPr/>
        </p:nvSpPr>
        <p:spPr>
          <a:xfrm>
            <a:off x="5724360" y="2205000"/>
            <a:ext cx="3024360" cy="4176720"/>
          </a:xfrm>
          <a:custGeom>
            <a:avLst/>
            <a:gdLst>
              <a:gd name="textAreaLeft" fmla="*/ 31680 w 3024360"/>
              <a:gd name="textAreaRight" fmla="*/ 2992680 w 3024360"/>
              <a:gd name="textAreaTop" fmla="*/ 31680 h 4176720"/>
              <a:gd name="textAreaBottom" fmla="*/ 4145040 h 4176720"/>
            </a:gdLst>
            <a:ahLst/>
            <a:rect l="textAreaLeft" t="textAreaTop" r="textAreaRight" b="textAreaBottom"/>
            <a:pathLst>
              <a:path w="21600" h="29829">
                <a:moveTo>
                  <a:pt x="775" y="0"/>
                </a:moveTo>
                <a:arcTo wR="775" hR="775" stAng="16200000" swAng="-5400000"/>
                <a:lnTo>
                  <a:pt x="0" y="29054"/>
                </a:lnTo>
                <a:arcTo wR="775" hR="775" stAng="10800000" swAng="-5400000"/>
                <a:lnTo>
                  <a:pt x="20825" y="29829"/>
                </a:lnTo>
                <a:arcTo wR="775" hR="775" stAng="5400000" swAng="-5400000"/>
                <a:lnTo>
                  <a:pt x="21600" y="775"/>
                </a:lnTo>
                <a:arcTo wR="775" hR="775" stAng="0" swAng="-5400000"/>
                <a:close/>
              </a:path>
            </a:pathLst>
          </a:cu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b36"/>
                </a:solidFill>
                <a:latin typeface="Segoe Semibold"/>
              </a:rPr>
              <a:t>Órgão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797440" y="2708280"/>
            <a:ext cx="2806920" cy="431640"/>
          </a:xfrm>
          <a:prstGeom prst="roundRect">
            <a:avLst>
              <a:gd name="adj" fmla="val 16667"/>
            </a:avLst>
          </a:prstGeom>
          <a:solidFill>
            <a:srgbClr val="0a1d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d0fd"/>
                </a:solidFill>
                <a:latin typeface="Segoe Semibold"/>
              </a:rPr>
              <a:t>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97440" y="3284640"/>
            <a:ext cx="1006560" cy="93636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d0fd"/>
                </a:solidFill>
                <a:latin typeface="Segoe Semibold"/>
              </a:rPr>
              <a:t>Pro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797440" y="4724280"/>
            <a:ext cx="1150920" cy="720720"/>
          </a:xfrm>
          <a:prstGeom prst="roundRect">
            <a:avLst>
              <a:gd name="adj" fmla="val 16667"/>
            </a:avLst>
          </a:prstGeom>
          <a:solidFill>
            <a:srgbClr val="18438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d0fd"/>
                </a:solidFill>
                <a:latin typeface="Segoe Semibold"/>
              </a:rPr>
              <a:t>Açã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099200" y="4724280"/>
            <a:ext cx="1217880" cy="720720"/>
          </a:xfrm>
          <a:prstGeom prst="roundRect">
            <a:avLst>
              <a:gd name="adj" fmla="val 16667"/>
            </a:avLst>
          </a:prstGeom>
          <a:solidFill>
            <a:srgbClr val="18438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d0fd"/>
                </a:solidFill>
                <a:latin typeface="Segoe Semibold"/>
              </a:rPr>
              <a:t>Açã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5" idx="2"/>
            <a:endCxn id="376" idx="0"/>
          </p:cNvCxnSpPr>
          <p:nvPr/>
        </p:nvCxnSpPr>
        <p:spPr>
          <a:xfrm>
            <a:off x="6300360" y="4221000"/>
            <a:ext cx="73800" cy="5040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379" name=""/>
          <p:cNvCxnSpPr>
            <a:stCxn id="375" idx="2"/>
            <a:endCxn id="366" idx="0"/>
          </p:cNvCxnSpPr>
          <p:nvPr/>
        </p:nvCxnSpPr>
        <p:spPr>
          <a:xfrm flipH="1">
            <a:off x="4752360" y="4221000"/>
            <a:ext cx="1548360" cy="5040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7162920" y="3284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d0fd"/>
                </a:solidFill>
                <a:latin typeface="Segoe Semibold"/>
              </a:rPr>
              <a:t>Indicado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162920" y="378936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bd0fd"/>
                </a:solidFill>
                <a:latin typeface="Segoe Semibold"/>
              </a:rPr>
              <a:t>Indicado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"/>
          <p:cNvCxnSpPr>
            <a:stCxn id="375" idx="3"/>
            <a:endCxn id="380" idx="1"/>
          </p:cNvCxnSpPr>
          <p:nvPr/>
        </p:nvCxnSpPr>
        <p:spPr>
          <a:xfrm flipV="1">
            <a:off x="6803640" y="3499920"/>
            <a:ext cx="359640" cy="2534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383" name=""/>
          <p:cNvCxnSpPr>
            <a:stCxn id="375" idx="3"/>
            <a:endCxn id="381" idx="1"/>
          </p:cNvCxnSpPr>
          <p:nvPr/>
        </p:nvCxnSpPr>
        <p:spPr>
          <a:xfrm>
            <a:off x="6803640" y="3752640"/>
            <a:ext cx="359640" cy="253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384" name=""/>
          <p:cNvCxnSpPr>
            <a:stCxn id="375" idx="2"/>
            <a:endCxn id="377" idx="0"/>
          </p:cNvCxnSpPr>
          <p:nvPr/>
        </p:nvCxnSpPr>
        <p:spPr>
          <a:xfrm>
            <a:off x="6300720" y="4221000"/>
            <a:ext cx="1409040" cy="5040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385" name=""/>
          <p:cNvCxnSpPr>
            <a:stCxn id="364" idx="2"/>
            <a:endCxn id="386" idx="0"/>
          </p:cNvCxnSpPr>
          <p:nvPr/>
        </p:nvCxnSpPr>
        <p:spPr>
          <a:xfrm>
            <a:off x="1044360" y="5444640"/>
            <a:ext cx="1080" cy="1436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386" name=""/>
          <p:cNvSpPr/>
          <p:nvPr/>
        </p:nvSpPr>
        <p:spPr>
          <a:xfrm>
            <a:off x="468360" y="5587920"/>
            <a:ext cx="1150920" cy="505080"/>
          </a:xfrm>
          <a:prstGeom prst="roundRect">
            <a:avLst>
              <a:gd name="adj" fmla="val 16667"/>
            </a:avLst>
          </a:prstGeom>
          <a:solidFill>
            <a:srgbClr val="184382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egoe Semibold"/>
              </a:rPr>
              <a:t>Prod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92440" y="5589720"/>
            <a:ext cx="1252440" cy="504720"/>
          </a:xfrm>
          <a:prstGeom prst="roundRect">
            <a:avLst>
              <a:gd name="adj" fmla="val 16667"/>
            </a:avLst>
          </a:prstGeom>
          <a:solidFill>
            <a:srgbClr val="184382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Prod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"/>
          <p:cNvCxnSpPr>
            <a:stCxn id="366" idx="2"/>
            <a:endCxn id="389" idx="0"/>
          </p:cNvCxnSpPr>
          <p:nvPr/>
        </p:nvCxnSpPr>
        <p:spPr>
          <a:xfrm flipH="1">
            <a:off x="4744800" y="5445000"/>
            <a:ext cx="8640" cy="1454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389" name=""/>
          <p:cNvSpPr/>
          <p:nvPr/>
        </p:nvSpPr>
        <p:spPr>
          <a:xfrm>
            <a:off x="4168800" y="5589720"/>
            <a:ext cx="1150920" cy="504720"/>
          </a:xfrm>
          <a:prstGeom prst="roundRect">
            <a:avLst>
              <a:gd name="adj" fmla="val 16667"/>
            </a:avLst>
          </a:prstGeom>
          <a:solidFill>
            <a:srgbClr val="184382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egoe Semibold"/>
              </a:rPr>
              <a:t>Prod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"/>
          <p:cNvCxnSpPr>
            <a:stCxn id="376" idx="2"/>
            <a:endCxn id="391" idx="0"/>
          </p:cNvCxnSpPr>
          <p:nvPr/>
        </p:nvCxnSpPr>
        <p:spPr>
          <a:xfrm flipH="1">
            <a:off x="6372000" y="5445000"/>
            <a:ext cx="2160" cy="1454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5796000" y="5589720"/>
            <a:ext cx="1150920" cy="504720"/>
          </a:xfrm>
          <a:prstGeom prst="roundRect">
            <a:avLst>
              <a:gd name="adj" fmla="val 16667"/>
            </a:avLst>
          </a:prstGeom>
          <a:solidFill>
            <a:srgbClr val="184382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egoe Semibold"/>
              </a:rPr>
              <a:t>Prod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"/>
          <p:cNvCxnSpPr>
            <a:endCxn id="393" idx="0"/>
          </p:cNvCxnSpPr>
          <p:nvPr/>
        </p:nvCxnSpPr>
        <p:spPr>
          <a:xfrm>
            <a:off x="7740360" y="5446440"/>
            <a:ext cx="1080" cy="1436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393" name=""/>
          <p:cNvSpPr/>
          <p:nvPr/>
        </p:nvSpPr>
        <p:spPr>
          <a:xfrm>
            <a:off x="7164360" y="5589720"/>
            <a:ext cx="1150920" cy="504720"/>
          </a:xfrm>
          <a:prstGeom prst="roundRect">
            <a:avLst>
              <a:gd name="adj" fmla="val 16667"/>
            </a:avLst>
          </a:prstGeom>
          <a:solidFill>
            <a:srgbClr val="184382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Segoe Semibold"/>
              </a:rPr>
              <a:t>Prod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"/>
          <p:cNvCxnSpPr>
            <a:stCxn id="365" idx="2"/>
            <a:endCxn id="387" idx="0"/>
          </p:cNvCxnSpPr>
          <p:nvPr/>
        </p:nvCxnSpPr>
        <p:spPr>
          <a:xfrm>
            <a:off x="2414160" y="5445000"/>
            <a:ext cx="5400" cy="1454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50920" y="1052640"/>
            <a:ext cx="8569080" cy="5545080"/>
          </a:xfrm>
          <a:prstGeom prst="roundRect">
            <a:avLst>
              <a:gd name="adj" fmla="val 9593"/>
            </a:avLst>
          </a:prstGeom>
          <a:solidFill>
            <a:srgbClr val="8fa4c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5280" y="2205000"/>
            <a:ext cx="8209080" cy="4176720"/>
          </a:xfrm>
          <a:prstGeom prst="roundRect">
            <a:avLst>
              <a:gd name="adj" fmla="val 3588"/>
            </a:avLst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1b36"/>
                </a:solidFill>
                <a:latin typeface="Segoe Semibold"/>
              </a:rPr>
              <a:t>Órgão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strutura básica da LO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9640" y="2637000"/>
            <a:ext cx="7993080" cy="3456000"/>
          </a:xfrm>
          <a:prstGeom prst="roundRect">
            <a:avLst>
              <a:gd name="adj" fmla="val 16667"/>
            </a:avLst>
          </a:prstGeom>
          <a:solidFill>
            <a:srgbClr val="184382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1b36"/>
                </a:solidFill>
                <a:latin typeface="Segoe Semibold"/>
              </a:rPr>
              <a:t>Limites Orçament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24000" y="1125360"/>
            <a:ext cx="3527280" cy="790920"/>
          </a:xfrm>
          <a:prstGeom prst="roundRect">
            <a:avLst>
              <a:gd name="adj" fmla="val 50000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bd0fd"/>
                </a:solidFill>
                <a:latin typeface="Segoe Semibold"/>
              </a:rPr>
              <a:t>Orç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258920" y="3284640"/>
            <a:ext cx="1150920" cy="720720"/>
          </a:xfrm>
          <a:prstGeom prst="roundRect">
            <a:avLst>
              <a:gd name="adj" fmla="val 16667"/>
            </a:avLst>
          </a:prstGeom>
          <a:solidFill>
            <a:srgbClr val="18438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bd0fd"/>
                </a:solidFill>
                <a:latin typeface="Segoe Semibold"/>
              </a:rPr>
              <a:t>Açã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"/>
          <p:cNvCxnSpPr>
            <a:stCxn id="400" idx="2"/>
            <a:endCxn id="402" idx="0"/>
          </p:cNvCxnSpPr>
          <p:nvPr/>
        </p:nvCxnSpPr>
        <p:spPr>
          <a:xfrm>
            <a:off x="1835280" y="4005000"/>
            <a:ext cx="2160" cy="2134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402" name=""/>
          <p:cNvSpPr/>
          <p:nvPr/>
        </p:nvSpPr>
        <p:spPr>
          <a:xfrm>
            <a:off x="684360" y="4218120"/>
            <a:ext cx="2303280" cy="1801800"/>
          </a:xfrm>
          <a:prstGeom prst="roundRect">
            <a:avLst>
              <a:gd name="adj" fmla="val 16667"/>
            </a:avLst>
          </a:prstGeom>
          <a:solidFill>
            <a:srgbClr val="184382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Segoe Semibold"/>
              </a:rPr>
              <a:t>Detalhamento da desp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3366"/>
              </a:buClr>
              <a:buFont typeface="Segoe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Segoe Semibold"/>
              </a:rPr>
              <a:t>Gru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3366"/>
              </a:buClr>
              <a:buFont typeface="Segoe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Segoe Semibold"/>
              </a:rPr>
              <a:t>Moda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3366"/>
              </a:buClr>
              <a:buFont typeface="Segoe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Segoe Semibold"/>
              </a:rPr>
              <a:t>F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3366"/>
              </a:buClr>
              <a:buFont typeface="Segoe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Segoe Semibold"/>
              </a:rPr>
              <a:t>Proced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995640" y="3284640"/>
            <a:ext cx="1150920" cy="720720"/>
          </a:xfrm>
          <a:prstGeom prst="roundRect">
            <a:avLst>
              <a:gd name="adj" fmla="val 16667"/>
            </a:avLst>
          </a:prstGeom>
          <a:solidFill>
            <a:srgbClr val="18438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bd0fd"/>
                </a:solidFill>
                <a:latin typeface="Segoe Semibold"/>
              </a:rPr>
              <a:t>Açã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"/>
          <p:cNvCxnSpPr>
            <a:stCxn id="403" idx="2"/>
            <a:endCxn id="405" idx="0"/>
          </p:cNvCxnSpPr>
          <p:nvPr/>
        </p:nvCxnSpPr>
        <p:spPr>
          <a:xfrm>
            <a:off x="4572000" y="4005000"/>
            <a:ext cx="2160" cy="2134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405" name=""/>
          <p:cNvSpPr/>
          <p:nvPr/>
        </p:nvSpPr>
        <p:spPr>
          <a:xfrm>
            <a:off x="3421080" y="4218120"/>
            <a:ext cx="2303280" cy="1801800"/>
          </a:xfrm>
          <a:prstGeom prst="roundRect">
            <a:avLst>
              <a:gd name="adj" fmla="val 16667"/>
            </a:avLst>
          </a:prstGeom>
          <a:solidFill>
            <a:srgbClr val="184382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Segoe Semibold"/>
              </a:rPr>
              <a:t>Detalhamento da desp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3366"/>
              </a:buClr>
              <a:buFont typeface="Segoe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Segoe Semibold"/>
              </a:rPr>
              <a:t>Gru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3366"/>
              </a:buClr>
              <a:buFont typeface="Segoe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Segoe Semibold"/>
              </a:rPr>
              <a:t>Moda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3366"/>
              </a:buClr>
              <a:buFont typeface="Segoe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Segoe Semibold"/>
              </a:rPr>
              <a:t>F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3366"/>
              </a:buClr>
              <a:buFont typeface="Segoe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Segoe Semibold"/>
              </a:rPr>
              <a:t>Proced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15280" y="3284640"/>
            <a:ext cx="1150920" cy="720720"/>
          </a:xfrm>
          <a:prstGeom prst="roundRect">
            <a:avLst>
              <a:gd name="adj" fmla="val 16667"/>
            </a:avLst>
          </a:prstGeom>
          <a:solidFill>
            <a:srgbClr val="184382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bd0fd"/>
                </a:solidFill>
                <a:latin typeface="Segoe Semibold"/>
              </a:rPr>
              <a:t>Ação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"/>
          <p:cNvCxnSpPr>
            <a:stCxn id="406" idx="2"/>
            <a:endCxn id="408" idx="0"/>
          </p:cNvCxnSpPr>
          <p:nvPr/>
        </p:nvCxnSpPr>
        <p:spPr>
          <a:xfrm>
            <a:off x="7090920" y="4005000"/>
            <a:ext cx="2520" cy="2134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5940360" y="4218120"/>
            <a:ext cx="2303640" cy="1801800"/>
          </a:xfrm>
          <a:prstGeom prst="roundRect">
            <a:avLst>
              <a:gd name="adj" fmla="val 16667"/>
            </a:avLst>
          </a:prstGeom>
          <a:solidFill>
            <a:srgbClr val="184382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Segoe Semibold"/>
              </a:rPr>
              <a:t>Detalhamento da desp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3366"/>
              </a:buClr>
              <a:buFont typeface="Segoe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Segoe Semibold"/>
              </a:rPr>
              <a:t>Gru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3366"/>
              </a:buClr>
              <a:buFont typeface="Segoe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Segoe Semibold"/>
              </a:rPr>
              <a:t>Moda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3366"/>
              </a:buClr>
              <a:buFont typeface="Segoe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Segoe Semibold"/>
              </a:rPr>
              <a:t>F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3366"/>
              </a:buClr>
              <a:buFont typeface="Segoe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Segoe Semibold"/>
              </a:rPr>
              <a:t>Procedê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5040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rograma e Ação no PPA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27000" y="1074600"/>
            <a:ext cx="8964720" cy="26384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799308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talhamento Orçamentári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755640" y="1065240"/>
            <a:ext cx="759636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finição dos Recurso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780000" y="1709640"/>
            <a:ext cx="3960720" cy="100800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bd0fd"/>
                </a:solidFill>
                <a:latin typeface="Segoe Semibold"/>
              </a:rPr>
              <a:t>Despesas Obrigató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bd0fd"/>
                </a:solidFill>
                <a:latin typeface="Segoe Semibold"/>
              </a:rPr>
              <a:t>(Pessoal, Juros, Precatórios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1700280"/>
            <a:ext cx="2665440" cy="3960720"/>
          </a:xfrm>
          <a:custGeom>
            <a:avLst/>
            <a:gdLst>
              <a:gd name="textAreaLeft" fmla="*/ 129960 w 2665440"/>
              <a:gd name="textAreaRight" fmla="*/ 2535480 w 2665440"/>
              <a:gd name="textAreaTop" fmla="*/ 129960 h 3960720"/>
              <a:gd name="textAreaBottom" fmla="*/ 3830760 h 3960720"/>
            </a:gdLst>
            <a:ahLst/>
            <a:rect l="textAreaLeft" t="textAreaTop" r="textAreaRight" b="textAreaBottom"/>
            <a:pathLst>
              <a:path w="21600" h="32095">
                <a:moveTo>
                  <a:pt x="3600" y="0"/>
                </a:moveTo>
                <a:arcTo wR="3600" hR="3600" stAng="16200000" swAng="-5400000"/>
                <a:lnTo>
                  <a:pt x="0" y="28495"/>
                </a:lnTo>
                <a:arcTo wR="3600" hR="3600" stAng="10800000" swAng="-5400000"/>
                <a:lnTo>
                  <a:pt x="18000" y="320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bd0fd"/>
                </a:solidFill>
                <a:latin typeface="Segoe Semibold"/>
              </a:rPr>
              <a:t>Receitas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80000" y="2797200"/>
            <a:ext cx="3960720" cy="100800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bd0fd"/>
                </a:solidFill>
                <a:latin typeface="Segoe Semibold"/>
              </a:rPr>
              <a:t>Despesas Estraté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bd0fd"/>
                </a:solidFill>
                <a:latin typeface="Segoe Semibold"/>
              </a:rPr>
              <a:t>(Programas Estruturador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80000" y="3898800"/>
            <a:ext cx="3960720" cy="100800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bd0fd"/>
                </a:solidFill>
                <a:latin typeface="Segoe Semibold"/>
              </a:rPr>
              <a:t>Demais Desp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bd0fd"/>
                </a:solidFill>
                <a:latin typeface="Segoe Semibold"/>
              </a:rPr>
              <a:t>(Programas Associados e Especia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80000" y="4992840"/>
            <a:ext cx="396072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Segoe Semibold"/>
              </a:rPr>
              <a:t>Recursos Adicionais (JPO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99"/>
                </a:solidFill>
                <a:latin typeface="Segoe Semibold"/>
              </a:rPr>
              <a:t>(Custeio e Investimen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50920" y="3141720"/>
            <a:ext cx="8497800" cy="3527280"/>
          </a:xfrm>
          <a:prstGeom prst="roundRect">
            <a:avLst>
              <a:gd name="adj" fmla="val 8269"/>
            </a:avLst>
          </a:prstGeom>
          <a:solidFill>
            <a:srgbClr val="8fa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0920" y="1413000"/>
            <a:ext cx="8497800" cy="1655640"/>
          </a:xfrm>
          <a:prstGeom prst="roundRect">
            <a:avLst>
              <a:gd name="adj" fmla="val 16667"/>
            </a:avLst>
          </a:prstGeom>
          <a:solidFill>
            <a:srgbClr val="8fa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rocess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16200000">
            <a:off x="216360" y="1879920"/>
            <a:ext cx="1366920" cy="72072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d0fd"/>
                </a:solidFill>
                <a:latin typeface="Segoe Semibold"/>
              </a:rPr>
              <a:t>PM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16200000">
            <a:off x="-90000" y="3890520"/>
            <a:ext cx="1942920" cy="75564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d0fd"/>
                </a:solidFill>
                <a:latin typeface="Segoe Semibold"/>
              </a:rPr>
              <a:t>PP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6200000">
            <a:off x="287280" y="5554080"/>
            <a:ext cx="1152360" cy="79056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d0fd"/>
                </a:solidFill>
                <a:latin typeface="Segoe Semibold"/>
              </a:rPr>
              <a:t>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336680" y="1557360"/>
            <a:ext cx="3745080" cy="36036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Visão de Fut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36680" y="2062080"/>
            <a:ext cx="3745080" cy="36036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Objetivos Estraté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335240" y="2565360"/>
            <a:ext cx="3744720" cy="36036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Áreas de Resul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24080" y="3332160"/>
            <a:ext cx="3744720" cy="43164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Projetos Estrutur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324080" y="3835440"/>
            <a:ext cx="3744720" cy="43344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Programas Associ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324080" y="4340160"/>
            <a:ext cx="3744720" cy="36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1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1d38"/>
                </a:solidFill>
                <a:latin typeface="Segoe Semibold"/>
              </a:rPr>
              <a:t>Programas Espe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03280" y="6021360"/>
            <a:ext cx="3746520" cy="36036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Detalhamento da Desp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6200000">
            <a:off x="4866480" y="1916640"/>
            <a:ext cx="1366920" cy="64764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601520" y="3943800"/>
            <a:ext cx="1871640" cy="64764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16200000">
            <a:off x="5185440" y="5623560"/>
            <a:ext cx="861840" cy="64764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24080" y="4772160"/>
            <a:ext cx="3744720" cy="43308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Valores Plurianu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03280" y="5516640"/>
            <a:ext cx="3746520" cy="36036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Detalhamento da Rece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12000" y="1700280"/>
            <a:ext cx="2592360" cy="1152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Segoe Semibold"/>
              </a:rPr>
              <a:t>Diretriz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Segoe Semibold"/>
              </a:rPr>
              <a:t>Estraté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012000" y="3645000"/>
            <a:ext cx="2663640" cy="1152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Segoe Semibold"/>
              </a:rPr>
              <a:t>Materialização 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Segoe Semibold"/>
              </a:rPr>
              <a:t>Estratégia 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Segoe Semibold"/>
              </a:rPr>
              <a:t>Polític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084720" y="5516640"/>
            <a:ext cx="2590920" cy="936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Segoe Semibold"/>
              </a:rPr>
              <a:t>Detalha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99"/>
                </a:solidFill>
                <a:latin typeface="Segoe Semibold"/>
              </a:rPr>
              <a:t>de Va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7080" y="146160"/>
            <a:ext cx="50403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lassificação Orçamentária da Despes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2723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3141720"/>
            <a:ext cx="6985080" cy="3527280"/>
          </a:xfrm>
          <a:prstGeom prst="roundRect">
            <a:avLst>
              <a:gd name="adj" fmla="val 8269"/>
            </a:avLst>
          </a:prstGeom>
          <a:solidFill>
            <a:srgbClr val="8fa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1b36"/>
                </a:solidFill>
                <a:latin typeface="Times New Roman"/>
              </a:rPr>
              <a:t>Planejamento Plurianual do Or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1413000"/>
            <a:ext cx="6985080" cy="1655640"/>
          </a:xfrm>
          <a:prstGeom prst="roundRect">
            <a:avLst>
              <a:gd name="adj" fmla="val 16667"/>
            </a:avLst>
          </a:prstGeom>
          <a:solidFill>
            <a:srgbClr val="8fa4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rocess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557360"/>
            <a:ext cx="1942920" cy="136692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d0fd"/>
                </a:solidFill>
                <a:latin typeface="Segoe Semibold"/>
              </a:rPr>
              <a:t>PM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3789360"/>
            <a:ext cx="1942920" cy="187164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d0fd"/>
                </a:solidFill>
                <a:latin typeface="Segoe Semibold"/>
              </a:rPr>
              <a:t>PP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5805360"/>
            <a:ext cx="1942920" cy="79056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d0fd"/>
                </a:solidFill>
                <a:latin typeface="Segoe Semibold"/>
              </a:rPr>
              <a:t>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1557360"/>
            <a:ext cx="3744720" cy="36036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Visão de Fut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0" y="2062080"/>
            <a:ext cx="3744720" cy="36036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Objetivos Estraté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4200" y="2565360"/>
            <a:ext cx="3745080" cy="36036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Áreas de Resul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6000" y="3789360"/>
            <a:ext cx="3744720" cy="43164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Projetos Estrutur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08720" y="1484280"/>
            <a:ext cx="1657440" cy="5113440"/>
          </a:xfrm>
          <a:custGeom>
            <a:avLst/>
            <a:gdLst>
              <a:gd name="textAreaLeft" fmla="*/ 80640 w 1657440"/>
              <a:gd name="textAreaRight" fmla="*/ 1576800 w 1657440"/>
              <a:gd name="textAreaTop" fmla="*/ 80640 h 5113440"/>
              <a:gd name="textAreaBottom" fmla="*/ 5032800 h 5113440"/>
            </a:gdLst>
            <a:ahLst/>
            <a:rect l="textAreaLeft" t="textAreaTop" r="textAreaRight" b="textAreaBottom"/>
            <a:pathLst>
              <a:path w="21600" h="66629">
                <a:moveTo>
                  <a:pt x="3600" y="0"/>
                </a:moveTo>
                <a:arcTo wR="3600" hR="3600" stAng="16200000" swAng="-5400000"/>
                <a:lnTo>
                  <a:pt x="0" y="63029"/>
                </a:lnTo>
                <a:arcTo wR="3600" hR="3600" stAng="10800000" swAng="-5400000"/>
                <a:lnTo>
                  <a:pt x="18000" y="666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Agendas Setoriais do Choque de Ges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4292640"/>
            <a:ext cx="3744720" cy="43344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Programas Associ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4797360"/>
            <a:ext cx="3744720" cy="36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1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1d38"/>
                </a:solidFill>
                <a:latin typeface="Segoe Semibold"/>
              </a:rPr>
              <a:t>Programas Espe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54200" y="5805360"/>
            <a:ext cx="3746520" cy="36036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Limites Orçament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4200" y="6237360"/>
            <a:ext cx="3746520" cy="36036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Detalhamento da Desp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6085440" y="1916280"/>
            <a:ext cx="1366920" cy="64800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5833080" y="4400640"/>
            <a:ext cx="1871640" cy="64800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337800" y="5869080"/>
            <a:ext cx="862200" cy="64800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5229360"/>
            <a:ext cx="3744720" cy="433080"/>
          </a:xfrm>
          <a:prstGeom prst="roundRect">
            <a:avLst>
              <a:gd name="adj" fmla="val 16667"/>
            </a:avLst>
          </a:prstGeom>
          <a:solidFill>
            <a:srgbClr val="184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bd0fd"/>
                </a:solidFill>
                <a:latin typeface="Segoe Semibold"/>
              </a:rPr>
              <a:t>Limites Plurianu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7080" y="146160"/>
            <a:ext cx="50403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lassificação Orçamentária da Despes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5920" y="2395440"/>
            <a:ext cx="1809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</a:rPr>
              <a:t>1.25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027160" y="2395440"/>
            <a:ext cx="1295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</a:rPr>
              <a:t>06  1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15920" y="1700280"/>
            <a:ext cx="1800360" cy="576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be0e3"/>
                </a:solidFill>
                <a:latin typeface="Times New Roman"/>
              </a:rPr>
              <a:t>Institu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54080" y="1700280"/>
            <a:ext cx="1405080" cy="576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be0e3"/>
                </a:solidFill>
                <a:latin typeface="Times New Roman"/>
              </a:rPr>
              <a:t>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394080" y="1700280"/>
            <a:ext cx="2592360" cy="576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be0e3"/>
                </a:solidFill>
                <a:latin typeface="Times New Roman"/>
              </a:rPr>
              <a:t>Por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394080" y="2408400"/>
            <a:ext cx="863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</a:rPr>
              <a:t>2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330800" y="2421000"/>
            <a:ext cx="1657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</a:rPr>
              <a:t>4 391 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130800" y="1700280"/>
            <a:ext cx="2087640" cy="576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be0e3"/>
                </a:solidFill>
                <a:latin typeface="Times New Roman"/>
              </a:rPr>
              <a:t>Por Natu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30800" y="2421000"/>
            <a:ext cx="2087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</a:rPr>
              <a:t>3.3.90.30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84360" y="3068640"/>
            <a:ext cx="36036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79280" y="3429000"/>
            <a:ext cx="2519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Quem realiza a despes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71640" y="3068640"/>
            <a:ext cx="360360" cy="108108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32000" y="4365720"/>
            <a:ext cx="2519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Exercendo qual função governamenta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727680" y="303516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33840" y="350028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564000" y="4005360"/>
            <a:ext cx="2519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Por meio de qual polític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651640" y="3429000"/>
            <a:ext cx="2519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Gastando em quê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98000" y="1717560"/>
            <a:ext cx="782640" cy="576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be0e3"/>
                </a:solidFill>
                <a:latin typeface="Times New Roman"/>
              </a:rPr>
              <a:t>Fo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317080" y="2421000"/>
            <a:ext cx="782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443640" y="4149720"/>
            <a:ext cx="2519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Financiado por que recurs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532720" y="3068640"/>
            <a:ext cx="360360" cy="936720"/>
          </a:xfrm>
          <a:prstGeom prst="downArrow">
            <a:avLst>
              <a:gd name="adj1" fmla="val 50000"/>
              <a:gd name="adj2" fmla="val 64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4536000" y="1951560"/>
            <a:ext cx="358920" cy="2592360"/>
          </a:xfrm>
          <a:custGeom>
            <a:avLst/>
            <a:gdLst>
              <a:gd name="textAreaLeft" fmla="*/ 0 w 358920"/>
              <a:gd name="textAreaRight" fmla="*/ 129600 w 35892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Programação Orçamentária e Financei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43000" y="1197000"/>
            <a:ext cx="86630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O Decreto n.º 44.716, de 8 de fevereiro de 2008, estabelece parâmetros para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Programação orçamentária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Alteração Orçamentária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Convêni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Programas Associados e Especiai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24000" y="5361120"/>
            <a:ext cx="1657440" cy="358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bbe0e3"/>
                </a:solidFill>
                <a:latin typeface="Gill Sans MT"/>
              </a:rPr>
              <a:t>1º quadrimes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124000" y="5745240"/>
            <a:ext cx="1657440" cy="358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bbe0e3"/>
                </a:solidFill>
                <a:latin typeface="Gill Sans MT"/>
              </a:rPr>
              <a:t>2º quadrimes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24000" y="6134040"/>
            <a:ext cx="1657440" cy="358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bbe0e3"/>
                </a:solidFill>
                <a:latin typeface="Gill Sans MT"/>
              </a:rPr>
              <a:t>3º quadrimes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903840" y="4940280"/>
            <a:ext cx="136836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bbe0e3"/>
                </a:solidFill>
                <a:latin typeface="Gill Sans MT"/>
              </a:rPr>
              <a:t>Custe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356080" y="4940280"/>
            <a:ext cx="1368720" cy="36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bbe0e3"/>
                </a:solidFill>
                <a:latin typeface="Gill Sans MT"/>
              </a:rPr>
              <a:t>Investim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924360" y="5372280"/>
            <a:ext cx="1368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Gill Sans MT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24360" y="5778360"/>
            <a:ext cx="1368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Gill Sans MT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924360" y="6164280"/>
            <a:ext cx="1368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Gill Sans MT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364000" y="5372280"/>
            <a:ext cx="1368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Gill Sans MT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364000" y="5770440"/>
            <a:ext cx="1368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Gill Sans MT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364000" y="6164280"/>
            <a:ext cx="1368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Gill Sans MT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Programação Orçamentária e Financeir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43000" y="1197000"/>
            <a:ext cx="5192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Modelo para programação (Jan-Dez):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165240" y="1889280"/>
            <a:ext cx="889308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ntato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2640" y="1197000"/>
            <a:ext cx="8901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André Abreu Re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imes New Roman"/>
              </a:rPr>
              <a:t>Diretoria Central de Planejamento, Programação e Norm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imes New Roman"/>
              </a:rPr>
              <a:t>Superintendência Central de Planejamento e Programação Orçamentári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imes New Roman"/>
              </a:rPr>
              <a:t>Secretaria de Estado de Planejamento e Gestã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Tel. 3290-8213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E-mail. andre.reis@planejamento.mg.gov.b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ágina: www.planejamento.mg.gov.b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H="1">
            <a:off x="123840" y="2203560"/>
            <a:ext cx="8879040" cy="3381120"/>
          </a:xfrm>
          <a:prstGeom prst="rect">
            <a:avLst/>
          </a:prstGeom>
          <a:solidFill>
            <a:srgbClr val="82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ESTADO PARA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 rot="10800000">
            <a:off x="1019520" y="2637000"/>
            <a:ext cx="7077240" cy="2636640"/>
          </a:xfrm>
          <a:custGeom>
            <a:avLst/>
            <a:gdLst>
              <a:gd name="textAreaLeft" fmla="*/ -360 w 7077240"/>
              <a:gd name="textAreaRight" fmla="*/ 7077240 w 7077240"/>
              <a:gd name="textAreaTop" fmla="*/ 360 h 2636640"/>
              <a:gd name="textAreaBottom" fmla="*/ 2637360 h 26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ÁREAS DE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42920" y="5580000"/>
            <a:ext cx="8858160" cy="1155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DESTINATÁRIOS DAS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38160" y="5949360"/>
            <a:ext cx="7199280" cy="675360"/>
            <a:chOff x="938160" y="5949360"/>
            <a:chExt cx="7199280" cy="675360"/>
          </a:xfrm>
        </p:grpSpPr>
        <p:sp>
          <p:nvSpPr>
            <p:cNvPr id="109" name=""/>
            <p:cNvSpPr/>
            <p:nvPr/>
          </p:nvSpPr>
          <p:spPr>
            <a:xfrm flipV="1" rot="5400000">
              <a:off x="1288440" y="5598720"/>
              <a:ext cx="664920" cy="1365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PESSOAS INSTRUÍDAS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SAUDÁVEIS E QUALIFIC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 rot="5400000">
              <a:off x="7134120" y="5621400"/>
              <a:ext cx="673200" cy="1333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CIDADES SEGURAS E BEM CUIDAD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 rot="5400000">
              <a:off x="5658480" y="5623560"/>
              <a:ext cx="674640" cy="132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EQÜIDADE ENTRE PESSOAS E REGIÕ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 rot="5400000">
              <a:off x="2777400" y="5619240"/>
              <a:ext cx="672840" cy="1332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JOVENS PROTAGONIS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 rot="5400000">
              <a:off x="4220280" y="5623560"/>
              <a:ext cx="674640" cy="132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Gill Sans MT"/>
                </a:rPr>
                <a:t>EMPRESAS DINÂMICAS E INOVADO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 flipH="1">
            <a:off x="117360" y="139680"/>
            <a:ext cx="8885520" cy="420840"/>
          </a:xfrm>
          <a:prstGeom prst="rect">
            <a:avLst/>
          </a:prstGeom>
          <a:solidFill>
            <a:srgbClr val="980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54000" bIns="54000" anchor="ctr">
            <a:noAutofit/>
          </a:bodyPr>
          <a:p>
            <a:pPr marL="85680" indent="-8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MINAS: O MELHOR ESTADO PARA SE VIV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 rot="10800000">
            <a:off x="106920" y="548280"/>
            <a:ext cx="8875800" cy="1654200"/>
          </a:xfrm>
          <a:prstGeom prst="rect">
            <a:avLst/>
          </a:prstGeom>
          <a:solidFill>
            <a:srgbClr val="f0c64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PLANO MINEIRO DE DESENVOLVIMENTO INTEGRADO – 2007/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728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Perspectiva Integrada do Capital Hu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8588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Investimento e Negó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6872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Integração Territorial Competiti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88360" y="981000"/>
            <a:ext cx="147636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Sustentabilidade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4836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Eqüidade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Bem-e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08360" y="981000"/>
            <a:ext cx="1366920" cy="719280"/>
          </a:xfrm>
          <a:prstGeom prst="roundRect">
            <a:avLst>
              <a:gd name="adj" fmla="val 16667"/>
            </a:avLst>
          </a:prstGeom>
          <a:solidFill>
            <a:srgbClr val="fafbc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Gill Sans MT"/>
              </a:rPr>
              <a:t>Rede de C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1258920" y="3033720"/>
            <a:ext cx="1405080" cy="59688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Gill Sans MT"/>
              </a:rPr>
              <a:t>Educação de Qu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1258920" y="4329000"/>
            <a:ext cx="1405080" cy="59688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Gill Sans MT"/>
              </a:rPr>
              <a:t>Protagonismo Juve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1258920" y="3681360"/>
            <a:ext cx="1405080" cy="59688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Gill Sans MT"/>
              </a:rPr>
              <a:t>Vida Saudá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2914560" y="3033720"/>
            <a:ext cx="1621080" cy="59688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Gill Sans MT"/>
              </a:rPr>
              <a:t>Investimento e Valor Agregado da 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5" action="ppaction://hlinksldjump"/>
          </p:cNvPr>
          <p:cNvSpPr/>
          <p:nvPr/>
        </p:nvSpPr>
        <p:spPr>
          <a:xfrm>
            <a:off x="2914560" y="3681360"/>
            <a:ext cx="1621080" cy="59688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Gill Sans MT"/>
              </a:rPr>
              <a:t>Inovação, Tecnologia e Qu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6" action="ppaction://hlinksldjump"/>
          </p:cNvPr>
          <p:cNvSpPr/>
          <p:nvPr/>
        </p:nvSpPr>
        <p:spPr>
          <a:xfrm>
            <a:off x="2914560" y="4329000"/>
            <a:ext cx="1621080" cy="59688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Gill Sans MT"/>
              </a:rPr>
              <a:t>Logística de Integração e Desenvolv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7" action="ppaction://hlinksldjump"/>
          </p:cNvPr>
          <p:cNvSpPr/>
          <p:nvPr/>
        </p:nvSpPr>
        <p:spPr>
          <a:xfrm>
            <a:off x="4716360" y="3033720"/>
            <a:ext cx="1513080" cy="82692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Gill Sans MT"/>
              </a:rPr>
              <a:t>Redução da Pobreza e Inclusão Produ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8" action="ppaction://hlinksldjump"/>
          </p:cNvPr>
          <p:cNvSpPr/>
          <p:nvPr/>
        </p:nvSpPr>
        <p:spPr>
          <a:xfrm>
            <a:off x="6443640" y="4329000"/>
            <a:ext cx="1405080" cy="59688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Gill Sans MT"/>
              </a:rPr>
              <a:t>Defesa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3640" y="3033720"/>
            <a:ext cx="1405080" cy="59688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Gill Sans MT"/>
              </a:rPr>
              <a:t>Rede de Cidades e Serviç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3640" y="3681360"/>
            <a:ext cx="1405080" cy="59688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Gill Sans MT"/>
              </a:rPr>
              <a:t>Qualidade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4005360"/>
            <a:ext cx="1557360" cy="936360"/>
          </a:xfrm>
          <a:prstGeom prst="roundRect">
            <a:avLst>
              <a:gd name="adj" fmla="val 16634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Gill Sans MT"/>
              </a:rPr>
              <a:t>Desenvolvimento do Norte de Minas,  Jequitinhonha, Mucuri e Rio Do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8317080" y="1768320"/>
            <a:ext cx="684000" cy="4967280"/>
          </a:xfrm>
          <a:prstGeom prst="rect">
            <a:avLst/>
          </a:prstGeom>
          <a:solidFill>
            <a:srgbClr val="f0c6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QUALIDADE E INOV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EM GESTÃO PÚB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82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0340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82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1468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82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2588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82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78480" y="1879560"/>
            <a:ext cx="63360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82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97880" y="1879560"/>
            <a:ext cx="633240" cy="324000"/>
          </a:xfrm>
          <a:prstGeom prst="upArrow">
            <a:avLst>
              <a:gd name="adj1" fmla="val 49870"/>
              <a:gd name="adj2" fmla="val 60296"/>
            </a:avLst>
          </a:prstGeom>
          <a:solidFill>
            <a:srgbClr val="82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22760" y="1766880"/>
            <a:ext cx="684360" cy="4968720"/>
          </a:xfrm>
          <a:prstGeom prst="rect">
            <a:avLst/>
          </a:prstGeom>
          <a:solidFill>
            <a:srgbClr val="f0c6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QUALIDADE FIS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01400" y="5265720"/>
            <a:ext cx="6482160" cy="324000"/>
            <a:chOff x="1301400" y="5265720"/>
            <a:chExt cx="6482160" cy="324000"/>
          </a:xfrm>
        </p:grpSpPr>
        <p:sp>
          <p:nvSpPr>
            <p:cNvPr id="142" name=""/>
            <p:cNvSpPr/>
            <p:nvPr/>
          </p:nvSpPr>
          <p:spPr>
            <a:xfrm rot="10800000">
              <a:off x="7149960" y="526572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5673600" y="526572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0800000">
              <a:off x="4217760" y="5265720"/>
              <a:ext cx="63324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800000">
              <a:off x="2806560" y="526572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00000">
              <a:off x="1301400" y="5265720"/>
              <a:ext cx="63324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71520" y="6225120"/>
            <a:ext cx="193320" cy="192600"/>
            <a:chOff x="371520" y="6225120"/>
            <a:chExt cx="193320" cy="192600"/>
          </a:xfrm>
        </p:grpSpPr>
        <p:sp>
          <p:nvSpPr>
            <p:cNvPr id="148" name=""/>
            <p:cNvSpPr/>
            <p:nvPr/>
          </p:nvSpPr>
          <p:spPr>
            <a:xfrm rot="2161200">
              <a:off x="398160" y="625284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28400" y="626580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0120" y="1884960"/>
            <a:ext cx="193320" cy="192600"/>
            <a:chOff x="330120" y="1884960"/>
            <a:chExt cx="193320" cy="192600"/>
          </a:xfrm>
        </p:grpSpPr>
        <p:sp>
          <p:nvSpPr>
            <p:cNvPr id="151" name=""/>
            <p:cNvSpPr/>
            <p:nvPr/>
          </p:nvSpPr>
          <p:spPr>
            <a:xfrm rot="2161200">
              <a:off x="356760" y="191268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7000" y="192564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572320" y="6236280"/>
            <a:ext cx="193680" cy="192960"/>
            <a:chOff x="8572320" y="6236280"/>
            <a:chExt cx="193680" cy="192960"/>
          </a:xfrm>
        </p:grpSpPr>
        <p:sp>
          <p:nvSpPr>
            <p:cNvPr id="154" name=""/>
            <p:cNvSpPr/>
            <p:nvPr/>
          </p:nvSpPr>
          <p:spPr>
            <a:xfrm flipH="1" rot="19438800">
              <a:off x="8598960" y="6264360"/>
              <a:ext cx="14004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8628840" y="627696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8588880" y="1881720"/>
            <a:ext cx="193320" cy="192600"/>
            <a:chOff x="8588880" y="1881720"/>
            <a:chExt cx="193320" cy="192600"/>
          </a:xfrm>
        </p:grpSpPr>
        <p:sp>
          <p:nvSpPr>
            <p:cNvPr id="157" name=""/>
            <p:cNvSpPr/>
            <p:nvPr/>
          </p:nvSpPr>
          <p:spPr>
            <a:xfrm flipH="1" rot="19438800">
              <a:off x="8615160" y="1909440"/>
              <a:ext cx="139680" cy="13644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8645040" y="1922400"/>
              <a:ext cx="8028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gramas e Áreas de Resul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23840" y="2203560"/>
            <a:ext cx="8879040" cy="3381120"/>
          </a:xfrm>
          <a:prstGeom prst="rect">
            <a:avLst/>
          </a:prstGeom>
          <a:solidFill>
            <a:srgbClr val="82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ill Sans MT"/>
              </a:rPr>
              <a:t>ESTADO PARA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 rot="10800000">
            <a:off x="1019520" y="2637000"/>
            <a:ext cx="7077240" cy="2636640"/>
          </a:xfrm>
          <a:custGeom>
            <a:avLst/>
            <a:gdLst>
              <a:gd name="textAreaLeft" fmla="*/ -360 w 7077240"/>
              <a:gd name="textAreaRight" fmla="*/ 7077240 w 7077240"/>
              <a:gd name="textAreaTop" fmla="*/ 360 h 2636640"/>
              <a:gd name="textAreaBottom" fmla="*/ 2637360 h 26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 MT"/>
              </a:rPr>
              <a:t>ÁREAS DE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07280" y="139680"/>
            <a:ext cx="8895600" cy="6595920"/>
            <a:chOff x="107280" y="139680"/>
            <a:chExt cx="8895600" cy="6595920"/>
          </a:xfrm>
        </p:grpSpPr>
        <p:sp>
          <p:nvSpPr>
            <p:cNvPr id="163" name=""/>
            <p:cNvSpPr/>
            <p:nvPr/>
          </p:nvSpPr>
          <p:spPr>
            <a:xfrm flipH="1">
              <a:off x="142920" y="5580000"/>
              <a:ext cx="8858160" cy="1155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Gill Sans MT"/>
                </a:rPr>
                <a:t>DESTINATÁRIOS DAS POLÍTICAS PÚB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938160" y="5949360"/>
              <a:ext cx="7199280" cy="675360"/>
              <a:chOff x="938160" y="5949360"/>
              <a:chExt cx="7199280" cy="675360"/>
            </a:xfrm>
          </p:grpSpPr>
          <p:sp>
            <p:nvSpPr>
              <p:cNvPr id="165" name=""/>
              <p:cNvSpPr/>
              <p:nvPr/>
            </p:nvSpPr>
            <p:spPr>
              <a:xfrm flipV="1" rot="5400000">
                <a:off x="1288440" y="5598720"/>
                <a:ext cx="664920" cy="13654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Gill Sans MT"/>
                  </a:rPr>
                  <a:t>PESSOAS INSTRUÍDAS,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Gill Sans MT"/>
                  </a:rPr>
                  <a:t>SAUDÁVEIS E QUALIFICAD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 rot="5400000">
                <a:off x="7134120" y="5621400"/>
                <a:ext cx="673200" cy="13334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Gill Sans MT"/>
                  </a:rPr>
                  <a:t>CIDADES SEGURAS E BEM CUIDAD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 rot="5400000">
                <a:off x="5658480" y="5623560"/>
                <a:ext cx="674640" cy="132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Gill Sans MT"/>
                  </a:rPr>
                  <a:t>EQÜIDADE ENTRE PESSOAS E REGIÕ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 rot="5400000">
                <a:off x="2777400" y="5619240"/>
                <a:ext cx="672840" cy="1332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Gill Sans MT"/>
                  </a:rPr>
                  <a:t>JOVENS PROTAGONIST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 rot="5400000">
                <a:off x="4220280" y="5623560"/>
                <a:ext cx="674640" cy="132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Gill Sans MT"/>
                  </a:rPr>
                  <a:t>EMPRESAS DINÂMICAS E INOVADORA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117360" y="139680"/>
              <a:ext cx="8885520" cy="420840"/>
            </a:xfrm>
            <a:prstGeom prst="rect">
              <a:avLst/>
            </a:prstGeom>
            <a:solidFill>
              <a:srgbClr val="980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54000" bIns="54000" anchor="ctr">
              <a:noAutofit/>
            </a:bodyPr>
            <a:p>
              <a:pPr marL="85680" indent="-856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500" spc="-1" strike="noStrike">
                  <a:solidFill>
                    <a:srgbClr val="ffffff"/>
                  </a:solidFill>
                  <a:latin typeface="Arial"/>
                </a:rPr>
                <a:t>MINAS: O MELHOR ESTADO PARA SE VIV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 rot="10800000">
              <a:off x="106920" y="548280"/>
              <a:ext cx="8875800" cy="1654200"/>
            </a:xfrm>
            <a:prstGeom prst="rect">
              <a:avLst/>
            </a:prstGeom>
            <a:solidFill>
              <a:srgbClr val="f0c64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Gill Sans MT"/>
                </a:rPr>
                <a:t>PLANO MINEIRO DE DESENVOLVIMENTO INTEGRADO – 2007/20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7280" y="981000"/>
              <a:ext cx="1366920" cy="719280"/>
            </a:xfrm>
            <a:prstGeom prst="roundRect">
              <a:avLst>
                <a:gd name="adj" fmla="val 16667"/>
              </a:avLst>
            </a:prstGeom>
            <a:solidFill>
              <a:srgbClr val="fafbc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Gill Sans MT"/>
                </a:rPr>
                <a:t>Perspectiva Integrada do Capital Huma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85880" y="981000"/>
              <a:ext cx="1366920" cy="719280"/>
            </a:xfrm>
            <a:prstGeom prst="roundRect">
              <a:avLst>
                <a:gd name="adj" fmla="val 16667"/>
              </a:avLst>
            </a:prstGeom>
            <a:solidFill>
              <a:srgbClr val="fafbc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Gill Sans MT"/>
                </a:rPr>
                <a:t>Investimento e Negóc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68720" y="981000"/>
              <a:ext cx="1366920" cy="719280"/>
            </a:xfrm>
            <a:prstGeom prst="roundRect">
              <a:avLst>
                <a:gd name="adj" fmla="val 16667"/>
              </a:avLst>
            </a:prstGeom>
            <a:solidFill>
              <a:srgbClr val="fafbc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Gill Sans MT"/>
                </a:rPr>
                <a:t>Integração Territorial Competitiv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88360" y="981000"/>
              <a:ext cx="1476360" cy="719280"/>
            </a:xfrm>
            <a:prstGeom prst="roundRect">
              <a:avLst>
                <a:gd name="adj" fmla="val 16667"/>
              </a:avLst>
            </a:prstGeom>
            <a:solidFill>
              <a:srgbClr val="fafbc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Gill Sans MT"/>
                </a:rPr>
                <a:t>Sustentabilidade Ambi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48360" y="981000"/>
              <a:ext cx="1366920" cy="719280"/>
            </a:xfrm>
            <a:prstGeom prst="roundRect">
              <a:avLst>
                <a:gd name="adj" fmla="val 16667"/>
              </a:avLst>
            </a:prstGeom>
            <a:solidFill>
              <a:srgbClr val="fafbc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Gill Sans MT"/>
                </a:rPr>
                <a:t>Eqüidade 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Gill Sans MT"/>
                </a:rPr>
                <a:t>Bem-est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08360" y="981000"/>
              <a:ext cx="1366920" cy="719280"/>
            </a:xfrm>
            <a:prstGeom prst="roundRect">
              <a:avLst>
                <a:gd name="adj" fmla="val 16667"/>
              </a:avLst>
            </a:prstGeom>
            <a:solidFill>
              <a:srgbClr val="fafbcd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Gill Sans MT"/>
                </a:rPr>
                <a:t>Rede de Cida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0560" y="187956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03400" y="187956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14680" y="187956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25880" y="187956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78480" y="1879560"/>
              <a:ext cx="63360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97880" y="1879560"/>
              <a:ext cx="633240" cy="324000"/>
            </a:xfrm>
            <a:prstGeom prst="upArrow">
              <a:avLst>
                <a:gd name="adj1" fmla="val 49870"/>
                <a:gd name="adj2" fmla="val 60296"/>
              </a:avLst>
            </a:prstGeom>
            <a:solidFill>
              <a:srgbClr val="82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301400" y="5265720"/>
              <a:ext cx="6482160" cy="324000"/>
              <a:chOff x="1301400" y="5265720"/>
              <a:chExt cx="6482160" cy="324000"/>
            </a:xfrm>
          </p:grpSpPr>
          <p:sp>
            <p:nvSpPr>
              <p:cNvPr id="185" name=""/>
              <p:cNvSpPr/>
              <p:nvPr/>
            </p:nvSpPr>
            <p:spPr>
              <a:xfrm rot="10800000">
                <a:off x="7149960" y="5265720"/>
                <a:ext cx="633600" cy="324000"/>
              </a:xfrm>
              <a:prstGeom prst="upArrow">
                <a:avLst>
                  <a:gd name="adj1" fmla="val 49870"/>
                  <a:gd name="adj2" fmla="val 60296"/>
                </a:avLst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0800000">
                <a:off x="5673600" y="5265720"/>
                <a:ext cx="633600" cy="324000"/>
              </a:xfrm>
              <a:prstGeom prst="upArrow">
                <a:avLst>
                  <a:gd name="adj1" fmla="val 49870"/>
                  <a:gd name="adj2" fmla="val 60296"/>
                </a:avLst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0800000">
                <a:off x="4217760" y="5265720"/>
                <a:ext cx="633240" cy="324000"/>
              </a:xfrm>
              <a:prstGeom prst="upArrow">
                <a:avLst>
                  <a:gd name="adj1" fmla="val 49870"/>
                  <a:gd name="adj2" fmla="val 60296"/>
                </a:avLst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2806560" y="5265720"/>
                <a:ext cx="633600" cy="324000"/>
              </a:xfrm>
              <a:prstGeom prst="upArrow">
                <a:avLst>
                  <a:gd name="adj1" fmla="val 49870"/>
                  <a:gd name="adj2" fmla="val 60296"/>
                </a:avLst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0800000">
                <a:off x="1301400" y="5265720"/>
                <a:ext cx="633240" cy="324000"/>
              </a:xfrm>
              <a:prstGeom prst="upArrow">
                <a:avLst>
                  <a:gd name="adj1" fmla="val 49870"/>
                  <a:gd name="adj2" fmla="val 60296"/>
                </a:avLst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580000" y="6000840"/>
            <a:ext cx="2629080" cy="59688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ill Sans MT"/>
              </a:rPr>
              <a:t>Programas Espe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3480" y="1766880"/>
            <a:ext cx="8877600" cy="4968720"/>
            <a:chOff x="123480" y="1766880"/>
            <a:chExt cx="8877600" cy="4968720"/>
          </a:xfrm>
        </p:grpSpPr>
        <p:sp>
          <p:nvSpPr>
            <p:cNvPr id="192" name=""/>
            <p:cNvSpPr/>
            <p:nvPr/>
          </p:nvSpPr>
          <p:spPr>
            <a:xfrm flipH="1" flipV="1">
              <a:off x="8317080" y="1768320"/>
              <a:ext cx="684000" cy="4967280"/>
            </a:xfrm>
            <a:prstGeom prst="rect">
              <a:avLst/>
            </a:prstGeom>
            <a:solidFill>
              <a:srgbClr val="f0c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Gill Sans MT"/>
                </a:rPr>
                <a:t>QUALIDADE E INOV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Gill Sans MT"/>
                </a:rPr>
                <a:t>EM GESTÃO PÚBL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122760" y="1766880"/>
              <a:ext cx="684360" cy="4968720"/>
            </a:xfrm>
            <a:prstGeom prst="rect">
              <a:avLst/>
            </a:prstGeom>
            <a:solidFill>
              <a:srgbClr val="f0c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Gill Sans MT"/>
                </a:rPr>
                <a:t>QUALIDADE FIS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71520" y="6225120"/>
              <a:ext cx="193320" cy="192600"/>
              <a:chOff x="371520" y="6225120"/>
              <a:chExt cx="193320" cy="192600"/>
            </a:xfrm>
          </p:grpSpPr>
          <p:sp>
            <p:nvSpPr>
              <p:cNvPr id="195" name=""/>
              <p:cNvSpPr/>
              <p:nvPr/>
            </p:nvSpPr>
            <p:spPr>
              <a:xfrm rot="2161200">
                <a:off x="398160" y="6252840"/>
                <a:ext cx="139680" cy="13644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428400" y="6265800"/>
                <a:ext cx="8028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30120" y="1884960"/>
              <a:ext cx="193320" cy="192600"/>
              <a:chOff x="330120" y="1884960"/>
              <a:chExt cx="193320" cy="192600"/>
            </a:xfrm>
          </p:grpSpPr>
          <p:sp>
            <p:nvSpPr>
              <p:cNvPr id="198" name=""/>
              <p:cNvSpPr/>
              <p:nvPr/>
            </p:nvSpPr>
            <p:spPr>
              <a:xfrm rot="2161200">
                <a:off x="356760" y="1912680"/>
                <a:ext cx="139680" cy="13644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387000" y="1925640"/>
                <a:ext cx="8028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8572320" y="6236280"/>
              <a:ext cx="193680" cy="192960"/>
              <a:chOff x="8572320" y="6236280"/>
              <a:chExt cx="193680" cy="192960"/>
            </a:xfrm>
          </p:grpSpPr>
          <p:sp>
            <p:nvSpPr>
              <p:cNvPr id="201" name=""/>
              <p:cNvSpPr/>
              <p:nvPr/>
            </p:nvSpPr>
            <p:spPr>
              <a:xfrm flipH="1" rot="19438800">
                <a:off x="8598960" y="6264360"/>
                <a:ext cx="140040" cy="13644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8628840" y="6276960"/>
                <a:ext cx="8028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8588880" y="1881720"/>
              <a:ext cx="193320" cy="192600"/>
              <a:chOff x="8588880" y="1881720"/>
              <a:chExt cx="193320" cy="192600"/>
            </a:xfrm>
          </p:grpSpPr>
          <p:sp>
            <p:nvSpPr>
              <p:cNvPr id="204" name=""/>
              <p:cNvSpPr/>
              <p:nvPr/>
            </p:nvSpPr>
            <p:spPr>
              <a:xfrm flipH="1" rot="19438800">
                <a:off x="8615160" y="1909440"/>
                <a:ext cx="139680" cy="13644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flipV="1">
                <a:off x="8645040" y="1922400"/>
                <a:ext cx="8028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3995640" y="6021360"/>
            <a:ext cx="1440000" cy="504720"/>
          </a:xfrm>
          <a:prstGeom prst="rightArrow">
            <a:avLst>
              <a:gd name="adj1" fmla="val 50000"/>
              <a:gd name="adj2" fmla="val 71327"/>
            </a:avLst>
          </a:prstGeom>
          <a:noFill/>
          <a:ln w="38160">
            <a:solidFill>
              <a:srgbClr val="001b3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23480" y="1766880"/>
            <a:ext cx="8877600" cy="4038480"/>
            <a:chOff x="123480" y="1766880"/>
            <a:chExt cx="8877600" cy="4038480"/>
          </a:xfrm>
        </p:grpSpPr>
        <p:sp>
          <p:nvSpPr>
            <p:cNvPr id="208" name=""/>
            <p:cNvSpPr/>
            <p:nvPr/>
          </p:nvSpPr>
          <p:spPr>
            <a:xfrm flipH="1" flipV="1">
              <a:off x="8317080" y="1768320"/>
              <a:ext cx="684000" cy="4037040"/>
            </a:xfrm>
            <a:prstGeom prst="rect">
              <a:avLst/>
            </a:prstGeom>
            <a:solidFill>
              <a:srgbClr val="f0c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Gill Sans MT"/>
                </a:rPr>
                <a:t>QUALIDADE E INOV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Gill Sans MT"/>
                </a:rPr>
                <a:t>EM GESTÃO PÚBL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122760" y="1766880"/>
              <a:ext cx="684360" cy="4038480"/>
            </a:xfrm>
            <a:prstGeom prst="rect">
              <a:avLst/>
            </a:prstGeom>
            <a:solidFill>
              <a:srgbClr val="f0c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Gill Sans MT"/>
                </a:rPr>
                <a:t>QUALIDADE FIS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368640" y="5416920"/>
              <a:ext cx="193320" cy="192960"/>
              <a:chOff x="368640" y="5416920"/>
              <a:chExt cx="193320" cy="192960"/>
            </a:xfrm>
          </p:grpSpPr>
          <p:sp>
            <p:nvSpPr>
              <p:cNvPr id="211" name=""/>
              <p:cNvSpPr/>
              <p:nvPr/>
            </p:nvSpPr>
            <p:spPr>
              <a:xfrm rot="2161200">
                <a:off x="395280" y="5444640"/>
                <a:ext cx="139680" cy="13680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424800" y="5457960"/>
                <a:ext cx="8064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30120" y="1884960"/>
              <a:ext cx="193320" cy="192600"/>
              <a:chOff x="330120" y="1884960"/>
              <a:chExt cx="193320" cy="192600"/>
            </a:xfrm>
          </p:grpSpPr>
          <p:sp>
            <p:nvSpPr>
              <p:cNvPr id="214" name=""/>
              <p:cNvSpPr/>
              <p:nvPr/>
            </p:nvSpPr>
            <p:spPr>
              <a:xfrm rot="2161200">
                <a:off x="356760" y="1912680"/>
                <a:ext cx="139680" cy="13644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387000" y="1925640"/>
                <a:ext cx="8028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8577360" y="5416920"/>
              <a:ext cx="193680" cy="192960"/>
              <a:chOff x="8577360" y="5416920"/>
              <a:chExt cx="193680" cy="192960"/>
            </a:xfrm>
          </p:grpSpPr>
          <p:sp>
            <p:nvSpPr>
              <p:cNvPr id="217" name=""/>
              <p:cNvSpPr/>
              <p:nvPr/>
            </p:nvSpPr>
            <p:spPr>
              <a:xfrm flipH="1" rot="19438800">
                <a:off x="8604360" y="5444640"/>
                <a:ext cx="139680" cy="13716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flipV="1">
                <a:off x="8633880" y="5457960"/>
                <a:ext cx="8064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8588880" y="1881720"/>
              <a:ext cx="193320" cy="192600"/>
              <a:chOff x="8588880" y="1881720"/>
              <a:chExt cx="193320" cy="192600"/>
            </a:xfrm>
          </p:grpSpPr>
          <p:sp>
            <p:nvSpPr>
              <p:cNvPr id="220" name=""/>
              <p:cNvSpPr/>
              <p:nvPr/>
            </p:nvSpPr>
            <p:spPr>
              <a:xfrm flipH="1" rot="19438800">
                <a:off x="8615160" y="1909440"/>
                <a:ext cx="139680" cy="13644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flipV="1">
                <a:off x="8645040" y="1922400"/>
                <a:ext cx="8028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" name=""/>
          <p:cNvSpPr/>
          <p:nvPr/>
        </p:nvSpPr>
        <p:spPr>
          <a:xfrm>
            <a:off x="63360" y="1081080"/>
            <a:ext cx="9042480" cy="4824360"/>
          </a:xfrm>
          <a:prstGeom prst="rect">
            <a:avLst/>
          </a:prstGeom>
          <a:solidFill>
            <a:srgbClr val="003366">
              <a:alpha val="27000"/>
            </a:srgbClr>
          </a:solidFill>
          <a:ln w="38160">
            <a:solidFill>
              <a:srgbClr val="001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43280" y="1125360"/>
            <a:ext cx="2376360" cy="59724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ill Sans MT"/>
              </a:rPr>
              <a:t>Programas Assoc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1125360"/>
            <a:ext cx="2448000" cy="59724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ill Sans MT"/>
              </a:rPr>
              <a:t>Projetos Estrutu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58920" y="3033720"/>
            <a:ext cx="1405080" cy="59688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Gill Sans MT"/>
              </a:rPr>
              <a:t>Educação de Qu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58920" y="4329000"/>
            <a:ext cx="1405080" cy="59688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Gill Sans MT"/>
              </a:rPr>
              <a:t>Protagonismo Juve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58920" y="3681360"/>
            <a:ext cx="1405080" cy="59688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Gill Sans MT"/>
              </a:rPr>
              <a:t>Vida Saudá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14560" y="3033720"/>
            <a:ext cx="1621080" cy="59688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Gill Sans MT"/>
              </a:rPr>
              <a:t>Investimento e Valor Agregado da 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4560" y="3681360"/>
            <a:ext cx="1621080" cy="59688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Gill Sans MT"/>
              </a:rPr>
              <a:t>Inovação, Tecnologia e Qu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14560" y="4329000"/>
            <a:ext cx="1621080" cy="59688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Gill Sans MT"/>
              </a:rPr>
              <a:t>Logística de Integração e Desenvolv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716360" y="3033720"/>
            <a:ext cx="1513080" cy="82692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Gill Sans MT"/>
              </a:rPr>
              <a:t>Redução da Pobreza e Inclusão Produ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43640" y="4329000"/>
            <a:ext cx="1405080" cy="59688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Gill Sans MT"/>
              </a:rPr>
              <a:t>Defesa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43640" y="3033720"/>
            <a:ext cx="1405080" cy="59688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Gill Sans MT"/>
              </a:rPr>
              <a:t>Rede de Cidades e Serviç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43640" y="3681360"/>
            <a:ext cx="1405080" cy="596880"/>
          </a:xfrm>
          <a:prstGeom prst="roundRect">
            <a:avLst>
              <a:gd name="adj" fmla="val 16667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Gill Sans MT"/>
              </a:rPr>
              <a:t>Qualidade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16360" y="4005360"/>
            <a:ext cx="1557360" cy="936360"/>
          </a:xfrm>
          <a:prstGeom prst="roundRect">
            <a:avLst>
              <a:gd name="adj" fmla="val 16634"/>
            </a:avLst>
          </a:prstGeom>
          <a:solidFill>
            <a:srgbClr val="828282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" rIns="10800" tIns="18000" bIns="18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Gill Sans MT"/>
              </a:rPr>
              <a:t>Desenvolvimento do Norte de Minas,  Jequitinhonha, Mucuri e Rio Do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650"/>
              </a:spcBef>
              <a:buClr>
                <a:srgbClr val="333399"/>
              </a:buClr>
              <a:buFont typeface="Times New Roman"/>
              <a:buChar char="•"/>
            </a:pPr>
            <a:r>
              <a:rPr b="1" lang="pt-BR" sz="2200" spc="-1" strike="noStrike">
                <a:solidFill>
                  <a:srgbClr val="003366"/>
                </a:solidFill>
                <a:latin typeface="Times New Roman"/>
              </a:rPr>
              <a:t>Cada Área de Resultado será alvo da intervenção de um </a:t>
            </a:r>
            <a:r>
              <a:rPr b="1" lang="pt-BR" sz="2200" spc="-1" strike="noStrike">
                <a:solidFill>
                  <a:srgbClr val="cc3300"/>
                </a:solidFill>
                <a:latin typeface="Times New Roman"/>
              </a:rPr>
              <a:t>Grupo de Projetos Estruturadore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650"/>
              </a:spcBef>
              <a:buClr>
                <a:srgbClr val="333399"/>
              </a:buClr>
              <a:buFont typeface="Times New Roman"/>
              <a:buChar char="•"/>
            </a:pPr>
            <a:r>
              <a:rPr b="1" lang="pt-BR" sz="2200" spc="-1" strike="noStrike">
                <a:solidFill>
                  <a:srgbClr val="003366"/>
                </a:solidFill>
                <a:latin typeface="Times New Roman"/>
              </a:rPr>
              <a:t>Os Grupos de Projetos Estruturadores são concebidos de forma a viabilizar uma intervenção sistêmica e combinada na área de resultado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1650"/>
              </a:spcBef>
              <a:buClr>
                <a:srgbClr val="333399"/>
              </a:buClr>
              <a:buFont typeface="Times New Roman"/>
              <a:buChar char="•"/>
            </a:pPr>
            <a:r>
              <a:rPr b="1" lang="pt-BR" sz="2200" spc="-1" strike="noStrike">
                <a:solidFill>
                  <a:srgbClr val="003366"/>
                </a:solidFill>
                <a:latin typeface="Times New Roman"/>
              </a:rPr>
              <a:t>Os Projetos Estruturadores foram selecionados e agrupados em função de sua capacidade transformadora e da sinergia entre seus resultados finalísticos e produtos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550"/>
              </a:spcBef>
              <a:buNone/>
            </a:pP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260280"/>
            <a:ext cx="43210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Áreas de Resultado - Pro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08000" y="3678120"/>
            <a:ext cx="6264360" cy="31356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748720" y="6453360"/>
            <a:ext cx="289080" cy="333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33360"/>
              <a:gd name="textAreaBottom" fmla="*/ 314640 h 333360"/>
            </a:gdLst>
            <a:ahLst/>
            <a:rect l="textAreaLeft" t="textAreaTop" r="textAreaRight" b="textAreaBottom"/>
            <a:pathLst>
              <a:path w="21600" h="24904">
                <a:moveTo>
                  <a:pt x="0" y="0"/>
                </a:moveTo>
                <a:lnTo>
                  <a:pt x="21600" y="0"/>
                </a:lnTo>
                <a:lnTo>
                  <a:pt x="21600" y="24904"/>
                </a:lnTo>
                <a:lnTo>
                  <a:pt x="0" y="24904"/>
                </a:lnTo>
                <a:close/>
              </a:path>
              <a:path fill="lightenLess" w="21600" h="249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04">
                <a:moveTo>
                  <a:pt x="21600" y="0"/>
                </a:moveTo>
                <a:lnTo>
                  <a:pt x="21600" y="24904"/>
                </a:lnTo>
                <a:lnTo>
                  <a:pt x="20200" y="23504"/>
                </a:lnTo>
                <a:lnTo>
                  <a:pt x="20200" y="1400"/>
                </a:lnTo>
                <a:close/>
              </a:path>
              <a:path fill="darkenLess" w="21600" h="24904">
                <a:moveTo>
                  <a:pt x="21600" y="24904"/>
                </a:moveTo>
                <a:lnTo>
                  <a:pt x="0" y="24904"/>
                </a:lnTo>
                <a:lnTo>
                  <a:pt x="1400" y="23504"/>
                </a:lnTo>
                <a:lnTo>
                  <a:pt x="20200" y="23504"/>
                </a:lnTo>
                <a:close/>
              </a:path>
              <a:path fill="lighten" w="21600" h="24904">
                <a:moveTo>
                  <a:pt x="0" y="249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04"/>
                </a:lnTo>
                <a:close/>
              </a:path>
              <a:path fill="darken" w="21600" h="24904">
                <a:moveTo>
                  <a:pt x="3794" y="12452"/>
                </a:moveTo>
                <a:lnTo>
                  <a:pt x="17806" y="5446"/>
                </a:lnTo>
                <a:lnTo>
                  <a:pt x="17806" y="1945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265400"/>
            <a:ext cx="914400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cc0027"/>
              </a:buClr>
              <a:buSzPct val="1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jetivos Estratégic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primorar a gestão de bacias hidrográficas, visando disponibilidade e qualidade de água e redução dos conflitos em torno de seu us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duzir a contaminação das águas de Minas Gerai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servar o Cerrado e recuperar a Mata Atlântic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mover a gestão eficiente dos passivos de mineração e indústria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mover investimentos privados com externalidades ambientais positiva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mpliar o tratamento de resíduos sólid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dotar metas de sustentabilidade e qualidade ambiental e consolidar o sistema de monitoramen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mpliar o percentual do território ambientalmente protegido e promover a gestão eficiente das Unidades de Conservaçã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solidar o Sistema de Informação Ambiental e de Monitoramen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cluir o zoneamento econômico-ecológico (uso da ter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13400" y="359712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a50021"/>
              </a:buClr>
              <a:buSzPct val="1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Projetos Estrutur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51640" y="4005360"/>
            <a:ext cx="2484360" cy="520200"/>
          </a:xfrm>
          <a:prstGeom prst="rect">
            <a:avLst/>
          </a:prstGeom>
          <a:solidFill>
            <a:srgbClr val="bc0024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Revitalização do Rio das Velh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1640" y="4594320"/>
            <a:ext cx="2484360" cy="307080"/>
          </a:xfrm>
          <a:prstGeom prst="rect">
            <a:avLst/>
          </a:prstGeom>
          <a:solidFill>
            <a:srgbClr val="bc0024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Resíduos Sól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51640" y="4978440"/>
            <a:ext cx="2484360" cy="733320"/>
          </a:xfrm>
          <a:prstGeom prst="rect">
            <a:avLst/>
          </a:prstGeom>
          <a:solidFill>
            <a:srgbClr val="bc0024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Conservação do Cerrado e Recuperação da Mata Atlân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51640" y="5805360"/>
            <a:ext cx="2484360" cy="520200"/>
          </a:xfrm>
          <a:prstGeom prst="rect">
            <a:avLst/>
          </a:prstGeom>
          <a:solidFill>
            <a:srgbClr val="bc0024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Consolidação da Gestão das Bacias Hidrográf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080" y="3700440"/>
            <a:ext cx="32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a50021"/>
              </a:buClr>
              <a:buSzPct val="1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ultados Finalís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260280"/>
            <a:ext cx="43210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Qualidade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Modelo Ilustrativo do Grupo de Projetos Estruturador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52360" y="1125360"/>
            <a:ext cx="9144000" cy="5715000"/>
            <a:chOff x="252360" y="1125360"/>
            <a:chExt cx="9144000" cy="5715000"/>
          </a:xfrm>
        </p:grpSpPr>
        <p:sp>
          <p:nvSpPr>
            <p:cNvPr id="250" name=""/>
            <p:cNvSpPr/>
            <p:nvPr/>
          </p:nvSpPr>
          <p:spPr>
            <a:xfrm>
              <a:off x="1079640" y="1125360"/>
              <a:ext cx="6792840" cy="5715000"/>
            </a:xfrm>
            <a:prstGeom prst="ellipse">
              <a:avLst/>
            </a:prstGeom>
            <a:solidFill>
              <a:srgbClr val="d7e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2360" y="20239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21000" y="2197080"/>
              <a:ext cx="4113000" cy="3570480"/>
            </a:xfrm>
            <a:prstGeom prst="ellipse">
              <a:avLst/>
            </a:prstGeom>
            <a:solidFill>
              <a:srgbClr val="fc61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4633920" y="1481040"/>
              <a:ext cx="382320" cy="360000"/>
              <a:chOff x="4633920" y="1481040"/>
              <a:chExt cx="382320" cy="360000"/>
            </a:xfrm>
          </p:grpSpPr>
          <p:sp>
            <p:nvSpPr>
              <p:cNvPr id="254" name=""/>
              <p:cNvSpPr/>
              <p:nvPr/>
            </p:nvSpPr>
            <p:spPr>
              <a:xfrm>
                <a:off x="4633920" y="1481040"/>
                <a:ext cx="382320" cy="360000"/>
              </a:xfrm>
              <a:prstGeom prst="ellipse">
                <a:avLst/>
              </a:prstGeom>
              <a:solidFill>
                <a:srgbClr val="a8d56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633920" y="1481040"/>
                <a:ext cx="382320" cy="360000"/>
              </a:xfrm>
              <a:prstGeom prst="ellipse">
                <a:avLst/>
              </a:prstGeom>
              <a:noFill/>
              <a:ln cap="rnd" w="79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862600" y="5587920"/>
              <a:ext cx="382320" cy="358560"/>
              <a:chOff x="5862600" y="5587920"/>
              <a:chExt cx="382320" cy="358560"/>
            </a:xfrm>
          </p:grpSpPr>
          <p:sp>
            <p:nvSpPr>
              <p:cNvPr id="257" name=""/>
              <p:cNvSpPr/>
              <p:nvPr/>
            </p:nvSpPr>
            <p:spPr>
              <a:xfrm>
                <a:off x="5862600" y="5587920"/>
                <a:ext cx="382320" cy="358560"/>
              </a:xfrm>
              <a:prstGeom prst="ellipse">
                <a:avLst/>
              </a:prstGeom>
              <a:solidFill>
                <a:srgbClr val="a8d56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862600" y="5587920"/>
                <a:ext cx="382320" cy="358560"/>
              </a:xfrm>
              <a:prstGeom prst="ellipse">
                <a:avLst/>
              </a:prstGeom>
              <a:noFill/>
              <a:ln cap="rnd" w="79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851280" y="1504800"/>
              <a:ext cx="380520" cy="357120"/>
              <a:chOff x="3851280" y="1504800"/>
              <a:chExt cx="380520" cy="357120"/>
            </a:xfrm>
          </p:grpSpPr>
          <p:sp>
            <p:nvSpPr>
              <p:cNvPr id="260" name=""/>
              <p:cNvSpPr/>
              <p:nvPr/>
            </p:nvSpPr>
            <p:spPr>
              <a:xfrm>
                <a:off x="3851280" y="1504800"/>
                <a:ext cx="380520" cy="357120"/>
              </a:xfrm>
              <a:prstGeom prst="ellipse">
                <a:avLst/>
              </a:prstGeom>
              <a:solidFill>
                <a:srgbClr val="a8d56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51280" y="1504800"/>
                <a:ext cx="380520" cy="357120"/>
              </a:xfrm>
              <a:prstGeom prst="ellipse">
                <a:avLst/>
              </a:prstGeom>
              <a:noFill/>
              <a:ln cap="rnd" w="79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282760" y="2209680"/>
              <a:ext cx="380880" cy="360000"/>
              <a:chOff x="2282760" y="2209680"/>
              <a:chExt cx="380880" cy="360000"/>
            </a:xfrm>
          </p:grpSpPr>
          <p:sp>
            <p:nvSpPr>
              <p:cNvPr id="263" name=""/>
              <p:cNvSpPr/>
              <p:nvPr/>
            </p:nvSpPr>
            <p:spPr>
              <a:xfrm>
                <a:off x="2282760" y="2209680"/>
                <a:ext cx="380880" cy="360000"/>
              </a:xfrm>
              <a:prstGeom prst="ellipse">
                <a:avLst/>
              </a:prstGeom>
              <a:solidFill>
                <a:srgbClr val="a8d56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82760" y="2209680"/>
                <a:ext cx="380880" cy="360000"/>
              </a:xfrm>
              <a:prstGeom prst="ellipse">
                <a:avLst/>
              </a:prstGeom>
              <a:noFill/>
              <a:ln cap="rnd" w="79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381400" y="5378400"/>
              <a:ext cx="381960" cy="356760"/>
              <a:chOff x="2381400" y="5378400"/>
              <a:chExt cx="381960" cy="356760"/>
            </a:xfrm>
          </p:grpSpPr>
          <p:sp>
            <p:nvSpPr>
              <p:cNvPr id="266" name=""/>
              <p:cNvSpPr/>
              <p:nvPr/>
            </p:nvSpPr>
            <p:spPr>
              <a:xfrm>
                <a:off x="2381400" y="5378400"/>
                <a:ext cx="381960" cy="356760"/>
              </a:xfrm>
              <a:prstGeom prst="ellipse">
                <a:avLst/>
              </a:prstGeom>
              <a:solidFill>
                <a:srgbClr val="a8d56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381400" y="5378400"/>
                <a:ext cx="381960" cy="356760"/>
              </a:xfrm>
              <a:prstGeom prst="ellipse">
                <a:avLst/>
              </a:prstGeom>
              <a:noFill/>
              <a:ln cap="rnd" w="79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596960" y="3886200"/>
              <a:ext cx="382320" cy="358560"/>
              <a:chOff x="1596960" y="3886200"/>
              <a:chExt cx="382320" cy="358560"/>
            </a:xfrm>
          </p:grpSpPr>
          <p:sp>
            <p:nvSpPr>
              <p:cNvPr id="269" name=""/>
              <p:cNvSpPr/>
              <p:nvPr/>
            </p:nvSpPr>
            <p:spPr>
              <a:xfrm>
                <a:off x="1596960" y="3886200"/>
                <a:ext cx="382320" cy="358560"/>
              </a:xfrm>
              <a:prstGeom prst="ellipse">
                <a:avLst/>
              </a:prstGeom>
              <a:solidFill>
                <a:srgbClr val="a8d56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596960" y="3886200"/>
                <a:ext cx="382320" cy="358560"/>
              </a:xfrm>
              <a:prstGeom prst="ellipse">
                <a:avLst/>
              </a:prstGeom>
              <a:noFill/>
              <a:ln cap="rnd" w="79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3666960" y="6165720"/>
              <a:ext cx="176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rojetos Associ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6885000" y="4414680"/>
              <a:ext cx="382320" cy="357120"/>
              <a:chOff x="6885000" y="4414680"/>
              <a:chExt cx="382320" cy="357120"/>
            </a:xfrm>
          </p:grpSpPr>
          <p:sp>
            <p:nvSpPr>
              <p:cNvPr id="273" name=""/>
              <p:cNvSpPr/>
              <p:nvPr/>
            </p:nvSpPr>
            <p:spPr>
              <a:xfrm>
                <a:off x="6885000" y="4414680"/>
                <a:ext cx="382320" cy="357120"/>
              </a:xfrm>
              <a:prstGeom prst="ellipse">
                <a:avLst/>
              </a:prstGeom>
              <a:solidFill>
                <a:srgbClr val="a8d56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885000" y="4414680"/>
                <a:ext cx="382320" cy="357120"/>
              </a:xfrm>
              <a:prstGeom prst="ellipse">
                <a:avLst/>
              </a:prstGeom>
              <a:noFill/>
              <a:ln cap="rnd" w="79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5905440" y="1859040"/>
              <a:ext cx="382320" cy="358200"/>
              <a:chOff x="5905440" y="1859040"/>
              <a:chExt cx="382320" cy="358200"/>
            </a:xfrm>
          </p:grpSpPr>
          <p:sp>
            <p:nvSpPr>
              <p:cNvPr id="276" name=""/>
              <p:cNvSpPr/>
              <p:nvPr/>
            </p:nvSpPr>
            <p:spPr>
              <a:xfrm>
                <a:off x="5905440" y="1859040"/>
                <a:ext cx="382320" cy="358200"/>
              </a:xfrm>
              <a:prstGeom prst="ellipse">
                <a:avLst/>
              </a:prstGeom>
              <a:solidFill>
                <a:srgbClr val="a8d56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905440" y="1859040"/>
                <a:ext cx="382320" cy="358200"/>
              </a:xfrm>
              <a:prstGeom prst="ellipse">
                <a:avLst/>
              </a:prstGeom>
              <a:noFill/>
              <a:ln cap="rnd" w="79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6386400" y="2475000"/>
              <a:ext cx="382320" cy="358200"/>
              <a:chOff x="6386400" y="2475000"/>
              <a:chExt cx="382320" cy="358200"/>
            </a:xfrm>
          </p:grpSpPr>
          <p:sp>
            <p:nvSpPr>
              <p:cNvPr id="279" name=""/>
              <p:cNvSpPr/>
              <p:nvPr/>
            </p:nvSpPr>
            <p:spPr>
              <a:xfrm>
                <a:off x="6386400" y="2475000"/>
                <a:ext cx="382320" cy="358200"/>
              </a:xfrm>
              <a:prstGeom prst="ellipse">
                <a:avLst/>
              </a:prstGeom>
              <a:solidFill>
                <a:srgbClr val="a8d56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386400" y="2475000"/>
                <a:ext cx="382320" cy="358200"/>
              </a:xfrm>
              <a:prstGeom prst="ellipse">
                <a:avLst/>
              </a:prstGeom>
              <a:noFill/>
              <a:ln cap="rnd" w="79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973920" y="3444840"/>
              <a:ext cx="382320" cy="358560"/>
              <a:chOff x="6973920" y="3444840"/>
              <a:chExt cx="382320" cy="358560"/>
            </a:xfrm>
          </p:grpSpPr>
          <p:sp>
            <p:nvSpPr>
              <p:cNvPr id="282" name=""/>
              <p:cNvSpPr/>
              <p:nvPr/>
            </p:nvSpPr>
            <p:spPr>
              <a:xfrm>
                <a:off x="6973920" y="3444840"/>
                <a:ext cx="382320" cy="358560"/>
              </a:xfrm>
              <a:prstGeom prst="ellipse">
                <a:avLst/>
              </a:prstGeom>
              <a:solidFill>
                <a:srgbClr val="a8d56d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973920" y="3444840"/>
                <a:ext cx="382320" cy="358560"/>
              </a:xfrm>
              <a:prstGeom prst="ellipse">
                <a:avLst/>
              </a:prstGeom>
              <a:noFill/>
              <a:ln cap="rnd" w="79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84" name=""/>
            <p:cNvCxnSpPr>
              <a:stCxn id="267" idx="7"/>
              <a:endCxn id="252" idx="3"/>
            </p:cNvCxnSpPr>
            <p:nvPr/>
          </p:nvCxnSpPr>
          <p:spPr>
            <a:xfrm flipV="1">
              <a:off x="2707920" y="5244840"/>
              <a:ext cx="315000" cy="1864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285" name=""/>
            <p:cNvCxnSpPr>
              <a:stCxn id="270" idx="6"/>
              <a:endCxn id="252" idx="2"/>
            </p:cNvCxnSpPr>
            <p:nvPr/>
          </p:nvCxnSpPr>
          <p:spPr>
            <a:xfrm flipV="1">
              <a:off x="1979640" y="3982320"/>
              <a:ext cx="442080" cy="8316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286" name=""/>
            <p:cNvCxnSpPr>
              <a:stCxn id="264" idx="5"/>
              <a:endCxn id="252" idx="1"/>
            </p:cNvCxnSpPr>
            <p:nvPr/>
          </p:nvCxnSpPr>
          <p:spPr>
            <a:xfrm>
              <a:off x="2607840" y="2517840"/>
              <a:ext cx="415080" cy="20232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287" name=""/>
            <p:cNvCxnSpPr>
              <a:stCxn id="261" idx="5"/>
              <a:endCxn id="252" idx="0"/>
            </p:cNvCxnSpPr>
            <p:nvPr/>
          </p:nvCxnSpPr>
          <p:spPr>
            <a:xfrm>
              <a:off x="4176720" y="1809720"/>
              <a:ext cx="302400" cy="38808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288" name=""/>
            <p:cNvCxnSpPr>
              <a:stCxn id="255" idx="4"/>
              <a:endCxn id="252" idx="0"/>
            </p:cNvCxnSpPr>
            <p:nvPr/>
          </p:nvCxnSpPr>
          <p:spPr>
            <a:xfrm flipH="1">
              <a:off x="4478040" y="1841400"/>
              <a:ext cx="348480" cy="35640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289" name=""/>
            <p:cNvCxnSpPr>
              <a:stCxn id="277" idx="3"/>
              <a:endCxn id="252" idx="7"/>
            </p:cNvCxnSpPr>
            <p:nvPr/>
          </p:nvCxnSpPr>
          <p:spPr>
            <a:xfrm flipH="1">
              <a:off x="5932080" y="2165040"/>
              <a:ext cx="29520" cy="55476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290" name=""/>
            <p:cNvCxnSpPr>
              <a:stCxn id="280" idx="3"/>
              <a:endCxn id="252" idx="7"/>
            </p:cNvCxnSpPr>
            <p:nvPr/>
          </p:nvCxnSpPr>
          <p:spPr>
            <a:xfrm flipH="1" flipV="1">
              <a:off x="5932080" y="2719080"/>
              <a:ext cx="510480" cy="6264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291" name=""/>
            <p:cNvCxnSpPr>
              <a:stCxn id="283" idx="2"/>
              <a:endCxn id="252" idx="6"/>
            </p:cNvCxnSpPr>
            <p:nvPr/>
          </p:nvCxnSpPr>
          <p:spPr>
            <a:xfrm flipH="1">
              <a:off x="6533640" y="3623760"/>
              <a:ext cx="440640" cy="35964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292" name=""/>
            <p:cNvCxnSpPr>
              <a:stCxn id="274" idx="1"/>
              <a:endCxn id="252" idx="6"/>
            </p:cNvCxnSpPr>
            <p:nvPr/>
          </p:nvCxnSpPr>
          <p:spPr>
            <a:xfrm flipH="1" flipV="1">
              <a:off x="6533280" y="3982320"/>
              <a:ext cx="407160" cy="48492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cxnSp>
          <p:nvCxnSpPr>
            <p:cNvPr id="293" name=""/>
            <p:cNvCxnSpPr>
              <a:stCxn id="258" idx="0"/>
              <a:endCxn id="252" idx="5"/>
            </p:cNvCxnSpPr>
            <p:nvPr/>
          </p:nvCxnSpPr>
          <p:spPr>
            <a:xfrm flipH="1" flipV="1">
              <a:off x="5932080" y="5244840"/>
              <a:ext cx="123120" cy="343440"/>
            </a:xfrm>
            <a:prstGeom prst="straightConnector1">
              <a:avLst/>
            </a:prstGeom>
            <a:ln w="9360">
              <a:solidFill>
                <a:srgbClr val="808080"/>
              </a:solidFill>
              <a:miter/>
            </a:ln>
          </p:spPr>
        </p:cxnSp>
        <p:sp>
          <p:nvSpPr>
            <p:cNvPr id="294" name=""/>
            <p:cNvSpPr/>
            <p:nvPr/>
          </p:nvSpPr>
          <p:spPr>
            <a:xfrm>
              <a:off x="3745080" y="4581360"/>
              <a:ext cx="156816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rojetos Estruturadores com Sinerg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2897280" y="2565360"/>
              <a:ext cx="3157200" cy="2485800"/>
              <a:chOff x="2897280" y="2565360"/>
              <a:chExt cx="3157200" cy="248580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5289480" y="2909880"/>
                <a:ext cx="380520" cy="360000"/>
                <a:chOff x="5289480" y="2909880"/>
                <a:chExt cx="380520" cy="3600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289480" y="2909880"/>
                  <a:ext cx="380520" cy="360000"/>
                </a:xfrm>
                <a:prstGeom prst="ellipse">
                  <a:avLst/>
                </a:prstGeom>
                <a:solidFill>
                  <a:srgbClr val="f1d7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289480" y="2909880"/>
                  <a:ext cx="380520" cy="360000"/>
                </a:xfrm>
                <a:prstGeom prst="ellipse">
                  <a:avLst/>
                </a:prstGeom>
                <a:noFill/>
                <a:ln cap="rnd" w="792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5289480" y="2909880"/>
                <a:ext cx="380520" cy="360000"/>
                <a:chOff x="5289480" y="2909880"/>
                <a:chExt cx="380520" cy="3600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5289480" y="2909880"/>
                  <a:ext cx="380520" cy="360000"/>
                </a:xfrm>
                <a:prstGeom prst="ellipse">
                  <a:avLst/>
                </a:prstGeom>
                <a:noFill/>
                <a:ln cap="rnd" w="792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289480" y="2909880"/>
                  <a:ext cx="380520" cy="360000"/>
                </a:xfrm>
                <a:prstGeom prst="ellipse">
                  <a:avLst/>
                </a:prstGeom>
                <a:noFill/>
                <a:ln cap="rnd" w="792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672160" y="3716280"/>
                <a:ext cx="382320" cy="360000"/>
                <a:chOff x="5672160" y="3716280"/>
                <a:chExt cx="382320" cy="3600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672160" y="3716280"/>
                  <a:ext cx="382320" cy="360000"/>
                </a:xfrm>
                <a:prstGeom prst="ellipse">
                  <a:avLst/>
                </a:prstGeom>
                <a:solidFill>
                  <a:srgbClr val="f1d7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672160" y="3716280"/>
                  <a:ext cx="382320" cy="360000"/>
                </a:xfrm>
                <a:prstGeom prst="ellipse">
                  <a:avLst/>
                </a:prstGeom>
                <a:noFill/>
                <a:ln cap="rnd" w="792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310000" y="4694400"/>
                <a:ext cx="379080" cy="356760"/>
                <a:chOff x="5310000" y="4694400"/>
                <a:chExt cx="379080" cy="3567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5310000" y="4694400"/>
                  <a:ext cx="379080" cy="356760"/>
                </a:xfrm>
                <a:prstGeom prst="ellipse">
                  <a:avLst/>
                </a:prstGeom>
                <a:solidFill>
                  <a:srgbClr val="f1d7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310000" y="4694400"/>
                  <a:ext cx="379080" cy="356760"/>
                </a:xfrm>
                <a:prstGeom prst="ellipse">
                  <a:avLst/>
                </a:prstGeom>
                <a:noFill/>
                <a:ln cap="rnd" w="792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3351240" y="4694400"/>
                <a:ext cx="379080" cy="356760"/>
                <a:chOff x="3351240" y="4694400"/>
                <a:chExt cx="379080" cy="3567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351240" y="4694400"/>
                  <a:ext cx="379080" cy="356760"/>
                </a:xfrm>
                <a:prstGeom prst="ellipse">
                  <a:avLst/>
                </a:prstGeom>
                <a:solidFill>
                  <a:srgbClr val="f1d7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351240" y="4694400"/>
                  <a:ext cx="379080" cy="356760"/>
                </a:xfrm>
                <a:prstGeom prst="ellipse">
                  <a:avLst/>
                </a:prstGeom>
                <a:noFill/>
                <a:ln cap="rnd" w="792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897280" y="3713040"/>
                <a:ext cx="381960" cy="357120"/>
                <a:chOff x="2897280" y="3713040"/>
                <a:chExt cx="381960" cy="3571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897280" y="3713040"/>
                  <a:ext cx="381960" cy="357120"/>
                </a:xfrm>
                <a:prstGeom prst="ellipse">
                  <a:avLst/>
                </a:prstGeom>
                <a:solidFill>
                  <a:srgbClr val="f1d7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897280" y="3713040"/>
                  <a:ext cx="381960" cy="357120"/>
                </a:xfrm>
                <a:prstGeom prst="ellipse">
                  <a:avLst/>
                </a:prstGeom>
                <a:noFill/>
                <a:ln cap="rnd" w="792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376440" y="2909880"/>
                <a:ext cx="380880" cy="360000"/>
                <a:chOff x="3376440" y="2909880"/>
                <a:chExt cx="380880" cy="3600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376440" y="2909880"/>
                  <a:ext cx="380880" cy="360000"/>
                </a:xfrm>
                <a:prstGeom prst="ellipse">
                  <a:avLst/>
                </a:prstGeom>
                <a:solidFill>
                  <a:srgbClr val="f1d7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376440" y="2909880"/>
                  <a:ext cx="380880" cy="360000"/>
                </a:xfrm>
                <a:prstGeom prst="ellipse">
                  <a:avLst/>
                </a:prstGeom>
                <a:noFill/>
                <a:ln cap="rnd" w="792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4298760" y="2565360"/>
                <a:ext cx="380880" cy="358560"/>
                <a:chOff x="4298760" y="2565360"/>
                <a:chExt cx="380880" cy="35856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298760" y="2565360"/>
                  <a:ext cx="380880" cy="358560"/>
                </a:xfrm>
                <a:prstGeom prst="ellipse">
                  <a:avLst/>
                </a:prstGeom>
                <a:solidFill>
                  <a:srgbClr val="f1d755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298760" y="2565360"/>
                  <a:ext cx="380880" cy="358560"/>
                </a:xfrm>
                <a:prstGeom prst="ellipse">
                  <a:avLst/>
                </a:prstGeom>
                <a:noFill/>
                <a:ln cap="rnd" w="792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699880" y="2924280"/>
                <a:ext cx="57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21" name=""/>
              <p:cNvCxnSpPr>
                <a:stCxn id="316" idx="7"/>
                <a:endCxn id="319" idx="2"/>
              </p:cNvCxnSpPr>
              <p:nvPr/>
            </p:nvCxnSpPr>
            <p:spPr>
              <a:xfrm flipV="1">
                <a:off x="3701880" y="2743920"/>
                <a:ext cx="597600" cy="2185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322" name=""/>
              <p:cNvCxnSpPr>
                <a:stCxn id="313" idx="0"/>
                <a:endCxn id="315" idx="3"/>
              </p:cNvCxnSpPr>
              <p:nvPr/>
            </p:nvCxnSpPr>
            <p:spPr>
              <a:xfrm flipV="1">
                <a:off x="3088800" y="3217320"/>
                <a:ext cx="345240" cy="4957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323" name=""/>
              <p:cNvCxnSpPr>
                <a:stCxn id="307" idx="7"/>
                <a:endCxn id="301" idx="5"/>
              </p:cNvCxnSpPr>
              <p:nvPr/>
            </p:nvCxnSpPr>
            <p:spPr>
              <a:xfrm flipH="1" flipV="1">
                <a:off x="5614200" y="3217680"/>
                <a:ext cx="19800" cy="15292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324" name=""/>
              <p:cNvCxnSpPr>
                <a:stCxn id="310" idx="1"/>
                <a:endCxn id="313" idx="4"/>
              </p:cNvCxnSpPr>
              <p:nvPr/>
            </p:nvCxnSpPr>
            <p:spPr>
              <a:xfrm flipH="1" flipV="1">
                <a:off x="3089160" y="4070160"/>
                <a:ext cx="317880" cy="67680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325" name=""/>
              <p:cNvCxnSpPr>
                <a:stCxn id="319" idx="6"/>
                <a:endCxn id="301" idx="1"/>
              </p:cNvCxnSpPr>
              <p:nvPr/>
            </p:nvCxnSpPr>
            <p:spPr>
              <a:xfrm>
                <a:off x="4679640" y="2744280"/>
                <a:ext cx="665640" cy="2185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326" name=""/>
              <p:cNvCxnSpPr>
                <a:stCxn id="304" idx="0"/>
                <a:endCxn id="301" idx="5"/>
              </p:cNvCxnSpPr>
              <p:nvPr/>
            </p:nvCxnSpPr>
            <p:spPr>
              <a:xfrm flipH="1" flipV="1">
                <a:off x="5614560" y="3217680"/>
                <a:ext cx="249840" cy="49896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327" name=""/>
              <p:cNvCxnSpPr>
                <a:stCxn id="304" idx="4"/>
                <a:endCxn id="307" idx="7"/>
              </p:cNvCxnSpPr>
              <p:nvPr/>
            </p:nvCxnSpPr>
            <p:spPr>
              <a:xfrm flipH="1">
                <a:off x="5633280" y="4076280"/>
                <a:ext cx="230760" cy="6706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328" name=""/>
              <p:cNvCxnSpPr>
                <a:stCxn id="316" idx="7"/>
                <a:endCxn id="301" idx="1"/>
              </p:cNvCxnSpPr>
              <p:nvPr/>
            </p:nvCxnSpPr>
            <p:spPr>
              <a:xfrm>
                <a:off x="3701880" y="29620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329" name=""/>
              <p:cNvCxnSpPr>
                <a:stCxn id="312" idx="6"/>
                <a:endCxn id="319" idx="4"/>
              </p:cNvCxnSpPr>
              <p:nvPr/>
            </p:nvCxnSpPr>
            <p:spPr>
              <a:xfrm flipV="1">
                <a:off x="3279240" y="2923920"/>
                <a:ext cx="1210680" cy="96912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330" name=""/>
              <p:cNvCxnSpPr>
                <a:stCxn id="316" idx="3"/>
                <a:endCxn id="310" idx="1"/>
              </p:cNvCxnSpPr>
              <p:nvPr/>
            </p:nvCxnSpPr>
            <p:spPr>
              <a:xfrm flipH="1">
                <a:off x="3405960" y="3218040"/>
                <a:ext cx="26280" cy="152928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331" name=""/>
              <p:cNvCxnSpPr>
                <a:stCxn id="310" idx="1"/>
                <a:endCxn id="319" idx="4"/>
              </p:cNvCxnSpPr>
              <p:nvPr/>
            </p:nvCxnSpPr>
            <p:spPr>
              <a:xfrm flipV="1">
                <a:off x="3406680" y="2923920"/>
                <a:ext cx="1083240" cy="182304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332" name=""/>
              <p:cNvCxnSpPr>
                <a:stCxn id="304" idx="2"/>
                <a:endCxn id="319" idx="4"/>
              </p:cNvCxnSpPr>
              <p:nvPr/>
            </p:nvCxnSpPr>
            <p:spPr>
              <a:xfrm flipH="1" flipV="1">
                <a:off x="4488840" y="2923560"/>
                <a:ext cx="1183320" cy="97380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333" name=""/>
              <p:cNvCxnSpPr>
                <a:stCxn id="307" idx="7"/>
                <a:endCxn id="319" idx="4"/>
              </p:cNvCxnSpPr>
              <p:nvPr/>
            </p:nvCxnSpPr>
            <p:spPr>
              <a:xfrm flipH="1" flipV="1">
                <a:off x="4488840" y="2923920"/>
                <a:ext cx="1145160" cy="182304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  <p:cxnSp>
            <p:nvCxnSpPr>
              <p:cNvPr id="334" name=""/>
              <p:cNvCxnSpPr>
                <a:stCxn id="304" idx="2"/>
                <a:endCxn id="313" idx="6"/>
              </p:cNvCxnSpPr>
              <p:nvPr/>
            </p:nvCxnSpPr>
            <p:spPr>
              <a:xfrm flipH="1" flipV="1">
                <a:off x="3279240" y="3891960"/>
                <a:ext cx="2393280" cy="5400"/>
              </a:xfrm>
              <a:prstGeom prst="straightConnector1">
                <a:avLst/>
              </a:prstGeom>
              <a:ln w="9360">
                <a:solidFill>
                  <a:srgbClr val="ffffff"/>
                </a:solidFill>
                <a:miter/>
              </a:ln>
            </p:spPr>
          </p:cxnSp>
        </p:grpSp>
        <p:sp>
          <p:nvSpPr>
            <p:cNvPr id="335" name=""/>
            <p:cNvSpPr/>
            <p:nvPr/>
          </p:nvSpPr>
          <p:spPr>
            <a:xfrm>
              <a:off x="3529080" y="3284640"/>
              <a:ext cx="1942920" cy="122400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Resultados para a socied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900000" y="573408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465300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35002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9640" y="249228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028000" y="486900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172360" y="364500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812000" y="242100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93080" y="141300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93080" y="609300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Projetos Especi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1844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Gill Sans MT"/>
              </a:rPr>
              <a:t>Projetos Especi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rogramas e Ações do PPA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20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Programa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</a:tabLst>
            </a:pPr>
            <a:r>
              <a:rPr b="0" lang="pt-BR" sz="2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Times New Roman"/>
              </a:rPr>
              <a:t>é o instrumento de organização da ação governamental, sendo mensurados por indicadores. Apesar de possuir apenas um órgão responsável, é desejável que o programa agrupe as ações com finalidades semelhantes, mesmo que estas sejam de responsabilidade de órgãos distintos.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jetos Estruturador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gramas Associa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gramas Especiai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Ação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2200" spc="-1" strike="noStrike">
                <a:solidFill>
                  <a:srgbClr val="003366"/>
                </a:solidFill>
                <a:latin typeface="Times New Roman"/>
              </a:rPr>
              <a:t>é o instrumento para alcançar o objetivo de um programa. Deve resultar em </a:t>
            </a:r>
            <a:r>
              <a:rPr b="0" lang="pt-BR" sz="2200" spc="-1" strike="noStrike" u="sng">
                <a:solidFill>
                  <a:srgbClr val="003366"/>
                </a:solidFill>
                <a:uFillTx/>
                <a:latin typeface="Times New Roman"/>
              </a:rPr>
              <a:t>um produto ou serviço</a:t>
            </a:r>
            <a:r>
              <a:rPr b="0" lang="pt-BR" sz="2200" spc="-1" strike="noStrike">
                <a:solidFill>
                  <a:srgbClr val="003366"/>
                </a:solidFill>
                <a:latin typeface="Times New Roman"/>
              </a:rPr>
              <a:t> fornecido à sociedade. 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Projet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tividad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Operações Especiai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94920" y="235080"/>
            <a:ext cx="4321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rogramas Estruturado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304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Representam os programas estratégicos concebidos pelo governo onde são alocados prioritariamente os recursos estaduais e dos quais se espera os maiores impactos na ação do governo estadual. Estes programas suplantam os encargos obrigatórios com a máquina pública, tendo em conta o alcance da visão de futuro e dos objetivos estratégicos fixados no Plano Mineiro de Desenvolvimento Integrad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Sua codificação está entre 1 e 99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7:39:41Z</dcterms:created>
  <dc:creator>Lucas Ravaiani</dc:creator>
  <dc:description/>
  <dc:language>en-US</dc:language>
  <cp:lastModifiedBy>m1050772</cp:lastModifiedBy>
  <dcterms:modified xsi:type="dcterms:W3CDTF">2008-02-18T13:59:49Z</dcterms:modified>
  <cp:revision>208</cp:revision>
  <dc:subject/>
  <dc:title>Slide 1</dc:title>
</cp:coreProperties>
</file>